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6.wmf" ContentType="image/x-wmf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8.jpeg" ContentType="image/jpeg"/>
  <Override PartName="/ppt/media/image20.png" ContentType="image/png"/>
  <Override PartName="/ppt/media/image2.jpeg" ContentType="image/jpeg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7.png" ContentType="image/png"/>
  <Override PartName="/ppt/media/image34.jpeg" ContentType="image/jpeg"/>
  <Override PartName="/ppt/media/image19.wmf" ContentType="image/x-wmf"/>
  <Override PartName="/ppt/media/image8.gif" ContentType="image/gif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38.png" ContentType="image/png"/>
  <Override PartName="/ppt/media/image39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42.jpeg" ContentType="image/jpeg"/>
  <Override PartName="/ppt/media/image9.wmf" ContentType="image/x-wmf"/>
  <Override PartName="/ppt/media/image43.jpeg" ContentType="image/jpeg"/>
  <Override PartName="/ppt/media/image44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33.wmf" ContentType="image/x-wmf"/>
  <Override PartName="/ppt/media/image29.jpeg" ContentType="image/jpeg"/>
  <Override PartName="/ppt/media/image11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08B7-C88A-495D-8D8B-368BDA404CA7}" type="slidenum">
              <a:rPr b="0" lang="zh-CN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2FFB-7CC3-4495-A3E9-54D2409B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2E2-F82B-4E6C-8516-D91F1411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D19-E8AF-41A3-9F41-FA790F31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927-7963-4AC9-B801-6CF02CDD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D5DF-E24C-4DA8-A1D6-354C58B2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9A8F-AD7D-43A7-982E-0CDD418D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829D-92EE-4151-9872-D8E64140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748E-FADE-4708-A188-61E92AB7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974A-E62D-4A7B-9F0D-91A37646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921E-045D-4982-A889-A41D2C1A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EFBE-B16E-4942-9645-CA2CD62D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2D5-C016-4972-B6D9-D9155F95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6947-E604-4E10-BC03-9251D927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285A-6ACC-46E1-9669-06159615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E837-09A1-44B4-BDC1-3A6F87B0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8A2F-B931-4C3B-AD6D-2CD0F640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92C6-E3FF-4673-82A6-793D1CAA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5CCF3-9F5C-4CB3-87F2-2A6ACC67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0C4E3-EAF6-4678-A339-72F2023F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9E4BA-8DE2-49EC-A47A-ACE50B55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5BBA8-DC37-45EB-98D0-F2E6D7F5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24756-69B6-4841-AC98-DCDF989D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A448-D320-4AF8-9C75-72ED5BCB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34375-DF2E-42A6-95DE-677E3073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085E3-6817-4FC6-9CA5-BBD0B0D0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39D25-B2E0-4FA6-93E2-D85D9D16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12B49-C841-4C77-BB25-531D1692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81C54-EA69-414A-B7BC-D6434CFE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92BDC-363E-4B0B-942C-96297B73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F667-266D-4887-8B5A-680851F5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AC2EC-410A-431A-B690-C2301A19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2435D-B5CA-41BF-9091-16C20199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C725D-CB04-43B5-8868-FB555CC2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1FE-7F79-41B5-B7CF-1A9531B6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975F8-4550-4B61-9222-058F1AD2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9B707-AAFD-4F91-A598-37A1DA51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FF198-A1AE-4085-8F3D-EA5F7DD3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47FA0-F403-4C3C-BC40-6B565195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B0605-E626-43EE-8BA3-98D95E72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3C12E-20AF-4844-BC64-C862B4FC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B3C71-0484-4607-B3F1-F69DE010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E0262-1968-48AB-992E-1247E28E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C04FC-564F-41FA-BEEA-FFA5CA7A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3007-17D9-4DBA-9D59-83A20117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ECCE-BA00-4465-BD08-98488F4F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BB02-3ECC-42F2-BC23-399B8C52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FC3-B30F-4C06-A337-2961648A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0E6-B40B-4419-9BE7-760B15C8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B1EA-5C13-41E4-9544-FD85220C0F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C623-0968-4F27-912F-94ABEA9529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05D1-9542-4F6F-A120-A4F5DD6BF841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099C-0C59-4001-8556-38C5287A5EF0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1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" Target="slide3.xml"/><Relationship Id="rId6" Type="http://schemas.openxmlformats.org/officeDocument/2006/relationships/image" Target="../media/image8.gif"/><Relationship Id="rId7" Type="http://schemas.openxmlformats.org/officeDocument/2006/relationships/slide" Target="slide8.xml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" Target="slide19.xml"/><Relationship Id="rId11" Type="http://schemas.openxmlformats.org/officeDocument/2006/relationships/image" Target="../media/image8.gif"/><Relationship Id="rId12" Type="http://schemas.openxmlformats.org/officeDocument/2006/relationships/slide" Target="slide20.xml"/><Relationship Id="rId13" Type="http://schemas.openxmlformats.org/officeDocument/2006/relationships/slide" Target="slide25.xml"/><Relationship Id="rId1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-684360"/>
            <a:ext cx="9142560" cy="7542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-483840" y="1371600"/>
            <a:ext cx="115524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邀请你们参观同学的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99680" y="1219320"/>
            <a:ext cx="1155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找出家中的主要工业产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371240" y="4647960"/>
            <a:ext cx="1066680" cy="533160"/>
            <a:chOff x="1371240" y="4647960"/>
            <a:chExt cx="1066680" cy="533160"/>
          </a:xfrm>
        </p:grpSpPr>
        <p:sp>
          <p:nvSpPr>
            <p:cNvPr id="179" name=""/>
            <p:cNvSpPr/>
            <p:nvPr/>
          </p:nvSpPr>
          <p:spPr>
            <a:xfrm flipH="1" flipV="1">
              <a:off x="1370880" y="4647600"/>
              <a:ext cx="1066680" cy="533160"/>
            </a:xfrm>
            <a:prstGeom prst="wedgeRectCallout">
              <a:avLst>
                <a:gd name="adj1" fmla="val -29166"/>
                <a:gd name="adj2" fmla="val 1267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98120" y="4648320"/>
              <a:ext cx="54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电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181120" y="5562720"/>
            <a:ext cx="1066680" cy="609480"/>
            <a:chOff x="5181120" y="5562720"/>
            <a:chExt cx="1066680" cy="609480"/>
          </a:xfrm>
        </p:grpSpPr>
        <p:sp>
          <p:nvSpPr>
            <p:cNvPr id="182" name=""/>
            <p:cNvSpPr/>
            <p:nvPr/>
          </p:nvSpPr>
          <p:spPr>
            <a:xfrm flipH="1">
              <a:off x="5180760" y="5562720"/>
              <a:ext cx="1066680" cy="609480"/>
            </a:xfrm>
            <a:prstGeom prst="wedgeRoundRectCallout">
              <a:avLst>
                <a:gd name="adj1" fmla="val -136759"/>
                <a:gd name="adj2" fmla="val -7265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44640" y="55832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沙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867280" y="2895480"/>
            <a:ext cx="990720" cy="533520"/>
            <a:chOff x="5867280" y="2895480"/>
            <a:chExt cx="990720" cy="533520"/>
          </a:xfrm>
        </p:grpSpPr>
        <p:sp>
          <p:nvSpPr>
            <p:cNvPr id="185" name=""/>
            <p:cNvSpPr/>
            <p:nvPr/>
          </p:nvSpPr>
          <p:spPr>
            <a:xfrm>
              <a:off x="5867280" y="2895480"/>
              <a:ext cx="990720" cy="533520"/>
            </a:xfrm>
            <a:prstGeom prst="wedgeRoundRectCallout">
              <a:avLst>
                <a:gd name="adj1" fmla="val 124583"/>
                <a:gd name="adj2" fmla="val 8422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25400" y="28954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空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2303640" cy="243828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5334120" y="0"/>
            <a:ext cx="3809880" cy="6856560"/>
            <a:chOff x="5334120" y="0"/>
            <a:chExt cx="3809880" cy="6856560"/>
          </a:xfrm>
        </p:grpSpPr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>
              <a:off x="5715000" y="0"/>
              <a:ext cx="34290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5334120" y="3657600"/>
              <a:ext cx="3808440" cy="319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/>
          <p:cNvSpPr/>
          <p:nvPr/>
        </p:nvSpPr>
        <p:spPr>
          <a:xfrm>
            <a:off x="838080" y="228600"/>
            <a:ext cx="4419720" cy="3581280"/>
          </a:xfrm>
          <a:prstGeom prst="wedgeRoundRectCallout">
            <a:avLst>
              <a:gd name="adj1" fmla="val -27083"/>
              <a:gd name="adj2" fmla="val 6688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7c5000"/>
                </a:solidFill>
                <a:latin typeface="Arial"/>
              </a:rPr>
              <a:t>我国很多城市建设的步伐很快，一座座高楼大厦拔地而起，一条条公路相继建成。如果没有工业为我们提供的建筑机械、新型建筑材料，就不可能有这样的高质量和高速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1933560" cy="30351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613160" cy="2592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6330960" y="0"/>
            <a:ext cx="2811600" cy="3581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3429000" y="3581280"/>
            <a:ext cx="2895480" cy="22701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371600" y="304920"/>
            <a:ext cx="4267080" cy="1904760"/>
          </a:xfrm>
          <a:prstGeom prst="wedgeRoundRectCallout">
            <a:avLst>
              <a:gd name="adj1" fmla="val -38430"/>
              <a:gd name="adj2" fmla="val 70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我们搞生物研究，离不开显微镜。而各种各样的显微镜等先进的仪器设备，是由工业提供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1981080" cy="220968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6324480" y="0"/>
            <a:ext cx="2819520" cy="3427560"/>
            <a:chOff x="6324480" y="0"/>
            <a:chExt cx="2819520" cy="3427560"/>
          </a:xfrm>
        </p:grpSpPr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6324480" y="0"/>
              <a:ext cx="2819520" cy="34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8148240" y="228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</a:rPr>
                <a:t>火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324480" y="3430440"/>
            <a:ext cx="2819160" cy="3427560"/>
            <a:chOff x="6324480" y="3430440"/>
            <a:chExt cx="2819160" cy="3427560"/>
          </a:xfrm>
        </p:grpSpPr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6324480" y="3430440"/>
              <a:ext cx="2819160" cy="34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8034120" y="3582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</a:rPr>
                <a:t>军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590920" y="3429000"/>
            <a:ext cx="3733560" cy="3428640"/>
            <a:chOff x="2590920" y="3429000"/>
            <a:chExt cx="3733560" cy="3428640"/>
          </a:xfrm>
        </p:grpSpPr>
        <p:pic>
          <p:nvPicPr>
            <p:cNvPr id="280" name="" descr=""/>
            <p:cNvPicPr/>
            <p:nvPr/>
          </p:nvPicPr>
          <p:blipFill>
            <a:blip r:embed="rId4"/>
            <a:stretch/>
          </p:blipFill>
          <p:spPr>
            <a:xfrm>
              <a:off x="2590920" y="3429000"/>
              <a:ext cx="3733560" cy="34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2743200" y="35845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</a:rPr>
                <a:t>坦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066680" y="380880"/>
            <a:ext cx="4572000" cy="2362320"/>
          </a:xfrm>
          <a:prstGeom prst="wedgeRoundRectCallout">
            <a:avLst>
              <a:gd name="adj1" fmla="val -45347"/>
              <a:gd name="adj2" fmla="val 7271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国防现代化需要有先进      的武器装备。而武器装备的生产，离不开工业提供的机器设备和原材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rId5" action="ppaction://hlinksldjump"/>
          </p:cNvPr>
          <p:cNvSpPr/>
          <p:nvPr/>
        </p:nvSpPr>
        <p:spPr>
          <a:xfrm>
            <a:off x="0" y="6669000"/>
            <a:ext cx="250920" cy="18900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28663" h="21600">
                <a:moveTo>
                  <a:pt x="0" y="0"/>
                </a:moveTo>
                <a:lnTo>
                  <a:pt x="28663" y="0"/>
                </a:lnTo>
                <a:lnTo>
                  <a:pt x="28663" y="21600"/>
                </a:lnTo>
                <a:lnTo>
                  <a:pt x="0" y="21600"/>
                </a:lnTo>
                <a:close/>
              </a:path>
              <a:path fill="lightenLess" w="28663" h="21600">
                <a:moveTo>
                  <a:pt x="0" y="0"/>
                </a:moveTo>
                <a:lnTo>
                  <a:pt x="28663" y="0"/>
                </a:lnTo>
                <a:lnTo>
                  <a:pt x="27263" y="1400"/>
                </a:lnTo>
                <a:lnTo>
                  <a:pt x="1400" y="1400"/>
                </a:lnTo>
                <a:close/>
              </a:path>
              <a:path fill="darken" w="28663" h="21600">
                <a:moveTo>
                  <a:pt x="28663" y="0"/>
                </a:moveTo>
                <a:lnTo>
                  <a:pt x="28663" y="21600"/>
                </a:lnTo>
                <a:lnTo>
                  <a:pt x="27263" y="20200"/>
                </a:lnTo>
                <a:lnTo>
                  <a:pt x="27263" y="1400"/>
                </a:lnTo>
                <a:close/>
              </a:path>
              <a:path fill="darkenLess" w="28663" h="21600">
                <a:moveTo>
                  <a:pt x="28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63" y="20200"/>
                </a:lnTo>
                <a:close/>
              </a:path>
              <a:path fill="lighten" w="28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63" h="21600">
                <a:moveTo>
                  <a:pt x="14332" y="3837"/>
                </a:moveTo>
                <a:lnTo>
                  <a:pt x="16908" y="6448"/>
                </a:lnTo>
                <a:lnTo>
                  <a:pt x="16908" y="4707"/>
                </a:lnTo>
                <a:lnTo>
                  <a:pt x="18683" y="4707"/>
                </a:lnTo>
                <a:lnTo>
                  <a:pt x="18683" y="8224"/>
                </a:lnTo>
                <a:lnTo>
                  <a:pt x="21295" y="10800"/>
                </a:lnTo>
                <a:lnTo>
                  <a:pt x="19641" y="10800"/>
                </a:lnTo>
                <a:lnTo>
                  <a:pt x="19641" y="17989"/>
                </a:lnTo>
                <a:lnTo>
                  <a:pt x="9022" y="17989"/>
                </a:lnTo>
                <a:lnTo>
                  <a:pt x="9022" y="10800"/>
                </a:lnTo>
                <a:lnTo>
                  <a:pt x="7369" y="10800"/>
                </a:lnTo>
                <a:close/>
              </a:path>
              <a:path fill="darkenLess" w="28663" h="21600">
                <a:moveTo>
                  <a:pt x="16908" y="6448"/>
                </a:moveTo>
                <a:lnTo>
                  <a:pt x="16908" y="4707"/>
                </a:lnTo>
                <a:lnTo>
                  <a:pt x="18683" y="4707"/>
                </a:lnTo>
                <a:lnTo>
                  <a:pt x="18683" y="8224"/>
                </a:lnTo>
                <a:close/>
              </a:path>
              <a:path fill="darkenLess" w="28663" h="21600">
                <a:moveTo>
                  <a:pt x="13409" y="14299"/>
                </a:moveTo>
                <a:lnTo>
                  <a:pt x="15254" y="14299"/>
                </a:lnTo>
                <a:lnTo>
                  <a:pt x="15254" y="17989"/>
                </a:lnTo>
                <a:lnTo>
                  <a:pt x="19641" y="17989"/>
                </a:lnTo>
                <a:lnTo>
                  <a:pt x="19641" y="10800"/>
                </a:lnTo>
                <a:lnTo>
                  <a:pt x="9022" y="10800"/>
                </a:lnTo>
                <a:lnTo>
                  <a:pt x="9022" y="17989"/>
                </a:lnTo>
                <a:lnTo>
                  <a:pt x="13409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0" y="5072040"/>
            <a:ext cx="1981080" cy="17859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895480" y="380880"/>
            <a:ext cx="347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提醒：厂长请慎重考虑厂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并谈谈选择时考虑的因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grpSp>
        <p:nvGrpSpPr>
          <p:cNvPr id="288" name=""/>
          <p:cNvGrpSpPr/>
          <p:nvPr/>
        </p:nvGrpSpPr>
        <p:grpSpPr>
          <a:xfrm>
            <a:off x="2217600" y="1219320"/>
            <a:ext cx="6012000" cy="4724280"/>
            <a:chOff x="2217600" y="1219320"/>
            <a:chExt cx="6012000" cy="4724280"/>
          </a:xfrm>
        </p:grpSpPr>
        <p:sp>
          <p:nvSpPr>
            <p:cNvPr id="289" name=""/>
            <p:cNvSpPr/>
            <p:nvPr/>
          </p:nvSpPr>
          <p:spPr>
            <a:xfrm>
              <a:off x="7704000" y="4038480"/>
              <a:ext cx="1447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356868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40120" y="342900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64160" y="24462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42240" y="26748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04160" y="31370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03800" y="45036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37320" y="43513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67480" y="4038480"/>
              <a:ext cx="1447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56640" y="41148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53080" y="2895480"/>
              <a:ext cx="14472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8040" y="42750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08720" y="48085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13640" y="2527200"/>
              <a:ext cx="215640" cy="21600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61000" y="579924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42240" y="47242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54520" y="373392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8040" y="22096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56640" y="21337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04000" y="213372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56640" y="16002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85240" y="12193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94520" y="35812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70840" y="25146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51720" y="51894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99440" y="54864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20120" y="25909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0120" y="28954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75400" y="3132000"/>
              <a:ext cx="1447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94520" y="5715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17600" y="160020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724280" y="2446200"/>
            <a:ext cx="3268800" cy="2202120"/>
            <a:chOff x="4724280" y="2446200"/>
            <a:chExt cx="3268800" cy="2202120"/>
          </a:xfrm>
        </p:grpSpPr>
        <p:grpSp>
          <p:nvGrpSpPr>
            <p:cNvPr id="321" name=""/>
            <p:cNvGrpSpPr/>
            <p:nvPr/>
          </p:nvGrpSpPr>
          <p:grpSpPr>
            <a:xfrm>
              <a:off x="5195880" y="4038480"/>
              <a:ext cx="2797200" cy="609840"/>
              <a:chOff x="5195880" y="4038480"/>
              <a:chExt cx="2797200" cy="609840"/>
            </a:xfrm>
          </p:grpSpPr>
          <p:sp>
            <p:nvSpPr>
              <p:cNvPr id="322" name=""/>
              <p:cNvSpPr/>
              <p:nvPr/>
            </p:nvSpPr>
            <p:spPr>
              <a:xfrm>
                <a:off x="5195880" y="4503600"/>
                <a:ext cx="14436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629400" y="4351320"/>
                <a:ext cx="1443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467480" y="4038480"/>
                <a:ext cx="14472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848720" y="4114800"/>
                <a:ext cx="1443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696080" y="4038480"/>
                <a:ext cx="14472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4724280" y="2446200"/>
              <a:ext cx="2408400" cy="1432080"/>
              <a:chOff x="4724280" y="2446200"/>
              <a:chExt cx="2408400" cy="1432080"/>
            </a:xfrm>
          </p:grpSpPr>
          <p:sp>
            <p:nvSpPr>
              <p:cNvPr id="328" name=""/>
              <p:cNvSpPr/>
              <p:nvPr/>
            </p:nvSpPr>
            <p:spPr>
              <a:xfrm>
                <a:off x="6411960" y="3568680"/>
                <a:ext cx="1443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3429000"/>
                <a:ext cx="14472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548320" y="2446200"/>
                <a:ext cx="14436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988320" y="3137040"/>
                <a:ext cx="1443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38680" y="3733920"/>
                <a:ext cx="14472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2438280" y="2550960"/>
            <a:ext cx="5322960" cy="2859120"/>
            <a:chOff x="2438280" y="2550960"/>
            <a:chExt cx="5322960" cy="2859120"/>
          </a:xfrm>
        </p:grpSpPr>
        <p:sp>
          <p:nvSpPr>
            <p:cNvPr id="334" name=""/>
            <p:cNvSpPr/>
            <p:nvPr/>
          </p:nvSpPr>
          <p:spPr>
            <a:xfrm>
              <a:off x="2438280" y="3649680"/>
              <a:ext cx="5322960" cy="1760400"/>
            </a:xfrm>
            <a:custGeom>
              <a:avLst/>
              <a:gdLst/>
              <a:ahLst/>
              <a:rect l="l" t="t" r="r" b="b"/>
              <a:pathLst>
                <a:path w="3353" h="1109">
                  <a:moveTo>
                    <a:pt x="0" y="5"/>
                  </a:moveTo>
                  <a:cubicBezTo>
                    <a:pt x="63" y="15"/>
                    <a:pt x="115" y="26"/>
                    <a:pt x="180" y="33"/>
                  </a:cubicBezTo>
                  <a:cubicBezTo>
                    <a:pt x="267" y="62"/>
                    <a:pt x="217" y="54"/>
                    <a:pt x="331" y="42"/>
                  </a:cubicBezTo>
                  <a:cubicBezTo>
                    <a:pt x="340" y="39"/>
                    <a:pt x="351" y="39"/>
                    <a:pt x="359" y="33"/>
                  </a:cubicBezTo>
                  <a:cubicBezTo>
                    <a:pt x="368" y="26"/>
                    <a:pt x="367" y="7"/>
                    <a:pt x="378" y="5"/>
                  </a:cubicBezTo>
                  <a:cubicBezTo>
                    <a:pt x="400" y="0"/>
                    <a:pt x="422" y="11"/>
                    <a:pt x="444" y="14"/>
                  </a:cubicBezTo>
                  <a:cubicBezTo>
                    <a:pt x="467" y="48"/>
                    <a:pt x="482" y="49"/>
                    <a:pt x="520" y="61"/>
                  </a:cubicBezTo>
                  <a:cubicBezTo>
                    <a:pt x="563" y="126"/>
                    <a:pt x="536" y="111"/>
                    <a:pt x="586" y="127"/>
                  </a:cubicBezTo>
                  <a:cubicBezTo>
                    <a:pt x="605" y="140"/>
                    <a:pt x="631" y="146"/>
                    <a:pt x="643" y="165"/>
                  </a:cubicBezTo>
                  <a:cubicBezTo>
                    <a:pt x="649" y="174"/>
                    <a:pt x="652" y="186"/>
                    <a:pt x="661" y="193"/>
                  </a:cubicBezTo>
                  <a:cubicBezTo>
                    <a:pt x="669" y="199"/>
                    <a:pt x="680" y="200"/>
                    <a:pt x="690" y="203"/>
                  </a:cubicBezTo>
                  <a:cubicBezTo>
                    <a:pt x="704" y="223"/>
                    <a:pt x="724" y="239"/>
                    <a:pt x="737" y="260"/>
                  </a:cubicBezTo>
                  <a:cubicBezTo>
                    <a:pt x="772" y="314"/>
                    <a:pt x="712" y="265"/>
                    <a:pt x="775" y="307"/>
                  </a:cubicBezTo>
                  <a:cubicBezTo>
                    <a:pt x="815" y="366"/>
                    <a:pt x="828" y="411"/>
                    <a:pt x="850" y="477"/>
                  </a:cubicBezTo>
                  <a:cubicBezTo>
                    <a:pt x="859" y="505"/>
                    <a:pt x="879" y="562"/>
                    <a:pt x="879" y="562"/>
                  </a:cubicBezTo>
                  <a:cubicBezTo>
                    <a:pt x="882" y="581"/>
                    <a:pt x="888" y="599"/>
                    <a:pt x="888" y="618"/>
                  </a:cubicBezTo>
                  <a:cubicBezTo>
                    <a:pt x="888" y="760"/>
                    <a:pt x="865" y="780"/>
                    <a:pt x="916" y="883"/>
                  </a:cubicBezTo>
                  <a:cubicBezTo>
                    <a:pt x="938" y="927"/>
                    <a:pt x="924" y="961"/>
                    <a:pt x="973" y="977"/>
                  </a:cubicBezTo>
                  <a:cubicBezTo>
                    <a:pt x="979" y="968"/>
                    <a:pt x="988" y="960"/>
                    <a:pt x="992" y="949"/>
                  </a:cubicBezTo>
                  <a:cubicBezTo>
                    <a:pt x="1012" y="897"/>
                    <a:pt x="983" y="884"/>
                    <a:pt x="1030" y="930"/>
                  </a:cubicBezTo>
                  <a:cubicBezTo>
                    <a:pt x="1044" y="974"/>
                    <a:pt x="1024" y="973"/>
                    <a:pt x="1011" y="1015"/>
                  </a:cubicBezTo>
                  <a:cubicBezTo>
                    <a:pt x="1014" y="1024"/>
                    <a:pt x="1022" y="1033"/>
                    <a:pt x="1020" y="1043"/>
                  </a:cubicBezTo>
                  <a:cubicBezTo>
                    <a:pt x="1012" y="1086"/>
                    <a:pt x="975" y="1064"/>
                    <a:pt x="1030" y="1081"/>
                  </a:cubicBezTo>
                  <a:cubicBezTo>
                    <a:pt x="1058" y="1072"/>
                    <a:pt x="1086" y="1062"/>
                    <a:pt x="1115" y="1053"/>
                  </a:cubicBezTo>
                  <a:cubicBezTo>
                    <a:pt x="1167" y="1066"/>
                    <a:pt x="1158" y="1081"/>
                    <a:pt x="1200" y="1109"/>
                  </a:cubicBezTo>
                  <a:cubicBezTo>
                    <a:pt x="1234" y="1086"/>
                    <a:pt x="1274" y="1065"/>
                    <a:pt x="1313" y="1053"/>
                  </a:cubicBezTo>
                  <a:cubicBezTo>
                    <a:pt x="1319" y="1043"/>
                    <a:pt x="1330" y="1035"/>
                    <a:pt x="1332" y="1024"/>
                  </a:cubicBezTo>
                  <a:cubicBezTo>
                    <a:pt x="1334" y="1014"/>
                    <a:pt x="1322" y="1006"/>
                    <a:pt x="1322" y="996"/>
                  </a:cubicBezTo>
                  <a:cubicBezTo>
                    <a:pt x="1322" y="933"/>
                    <a:pt x="1320" y="943"/>
                    <a:pt x="1360" y="930"/>
                  </a:cubicBezTo>
                  <a:cubicBezTo>
                    <a:pt x="1372" y="897"/>
                    <a:pt x="1359" y="855"/>
                    <a:pt x="1379" y="826"/>
                  </a:cubicBezTo>
                  <a:cubicBezTo>
                    <a:pt x="1391" y="809"/>
                    <a:pt x="1490" y="800"/>
                    <a:pt x="1502" y="798"/>
                  </a:cubicBezTo>
                  <a:cubicBezTo>
                    <a:pt x="1556" y="779"/>
                    <a:pt x="1593" y="765"/>
                    <a:pt x="1643" y="732"/>
                  </a:cubicBezTo>
                  <a:cubicBezTo>
                    <a:pt x="1660" y="721"/>
                    <a:pt x="1700" y="713"/>
                    <a:pt x="1700" y="713"/>
                  </a:cubicBezTo>
                  <a:cubicBezTo>
                    <a:pt x="1734" y="678"/>
                    <a:pt x="1771" y="665"/>
                    <a:pt x="1813" y="637"/>
                  </a:cubicBezTo>
                  <a:cubicBezTo>
                    <a:pt x="1823" y="631"/>
                    <a:pt x="1842" y="618"/>
                    <a:pt x="1842" y="618"/>
                  </a:cubicBezTo>
                  <a:cubicBezTo>
                    <a:pt x="1878" y="565"/>
                    <a:pt x="1841" y="608"/>
                    <a:pt x="1889" y="581"/>
                  </a:cubicBezTo>
                  <a:cubicBezTo>
                    <a:pt x="1919" y="565"/>
                    <a:pt x="1967" y="516"/>
                    <a:pt x="2002" y="505"/>
                  </a:cubicBezTo>
                  <a:cubicBezTo>
                    <a:pt x="2042" y="492"/>
                    <a:pt x="2084" y="487"/>
                    <a:pt x="2125" y="477"/>
                  </a:cubicBezTo>
                  <a:cubicBezTo>
                    <a:pt x="2134" y="479"/>
                    <a:pt x="2180" y="489"/>
                    <a:pt x="2191" y="496"/>
                  </a:cubicBezTo>
                  <a:cubicBezTo>
                    <a:pt x="2261" y="544"/>
                    <a:pt x="2179" y="510"/>
                    <a:pt x="2248" y="533"/>
                  </a:cubicBezTo>
                  <a:cubicBezTo>
                    <a:pt x="2267" y="539"/>
                    <a:pt x="2304" y="552"/>
                    <a:pt x="2304" y="552"/>
                  </a:cubicBezTo>
                  <a:cubicBezTo>
                    <a:pt x="2314" y="558"/>
                    <a:pt x="2322" y="566"/>
                    <a:pt x="2333" y="571"/>
                  </a:cubicBezTo>
                  <a:cubicBezTo>
                    <a:pt x="2351" y="579"/>
                    <a:pt x="2389" y="590"/>
                    <a:pt x="2389" y="590"/>
                  </a:cubicBezTo>
                  <a:cubicBezTo>
                    <a:pt x="2405" y="635"/>
                    <a:pt x="2416" y="625"/>
                    <a:pt x="2456" y="618"/>
                  </a:cubicBezTo>
                  <a:cubicBezTo>
                    <a:pt x="2481" y="613"/>
                    <a:pt x="2506" y="612"/>
                    <a:pt x="2531" y="609"/>
                  </a:cubicBezTo>
                  <a:cubicBezTo>
                    <a:pt x="2550" y="602"/>
                    <a:pt x="2570" y="600"/>
                    <a:pt x="2588" y="590"/>
                  </a:cubicBezTo>
                  <a:cubicBezTo>
                    <a:pt x="2608" y="579"/>
                    <a:pt x="2644" y="552"/>
                    <a:pt x="2644" y="552"/>
                  </a:cubicBezTo>
                  <a:cubicBezTo>
                    <a:pt x="2650" y="543"/>
                    <a:pt x="2666" y="535"/>
                    <a:pt x="2663" y="524"/>
                  </a:cubicBezTo>
                  <a:cubicBezTo>
                    <a:pt x="2655" y="490"/>
                    <a:pt x="2609" y="532"/>
                    <a:pt x="2607" y="533"/>
                  </a:cubicBezTo>
                  <a:cubicBezTo>
                    <a:pt x="2601" y="543"/>
                    <a:pt x="2577" y="559"/>
                    <a:pt x="2588" y="562"/>
                  </a:cubicBezTo>
                  <a:cubicBezTo>
                    <a:pt x="2607" y="567"/>
                    <a:pt x="2644" y="543"/>
                    <a:pt x="2644" y="543"/>
                  </a:cubicBezTo>
                  <a:cubicBezTo>
                    <a:pt x="2660" y="546"/>
                    <a:pt x="2678" y="544"/>
                    <a:pt x="2692" y="552"/>
                  </a:cubicBezTo>
                  <a:cubicBezTo>
                    <a:pt x="2702" y="558"/>
                    <a:pt x="2701" y="575"/>
                    <a:pt x="2711" y="581"/>
                  </a:cubicBezTo>
                  <a:cubicBezTo>
                    <a:pt x="2728" y="591"/>
                    <a:pt x="2767" y="599"/>
                    <a:pt x="2767" y="599"/>
                  </a:cubicBezTo>
                  <a:cubicBezTo>
                    <a:pt x="2847" y="574"/>
                    <a:pt x="2806" y="593"/>
                    <a:pt x="2880" y="543"/>
                  </a:cubicBezTo>
                  <a:cubicBezTo>
                    <a:pt x="2890" y="537"/>
                    <a:pt x="2899" y="530"/>
                    <a:pt x="2909" y="524"/>
                  </a:cubicBezTo>
                  <a:cubicBezTo>
                    <a:pt x="2918" y="518"/>
                    <a:pt x="2937" y="505"/>
                    <a:pt x="2937" y="505"/>
                  </a:cubicBezTo>
                  <a:cubicBezTo>
                    <a:pt x="2966" y="461"/>
                    <a:pt x="2974" y="426"/>
                    <a:pt x="3022" y="411"/>
                  </a:cubicBezTo>
                  <a:cubicBezTo>
                    <a:pt x="3036" y="390"/>
                    <a:pt x="3091" y="280"/>
                    <a:pt x="3117" y="278"/>
                  </a:cubicBezTo>
                  <a:cubicBezTo>
                    <a:pt x="3195" y="272"/>
                    <a:pt x="3274" y="278"/>
                    <a:pt x="3353" y="27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51320" y="2550960"/>
              <a:ext cx="3776400" cy="1411560"/>
            </a:xfrm>
            <a:custGeom>
              <a:avLst/>
              <a:gdLst/>
              <a:ahLst/>
              <a:rect l="l" t="t" r="r" b="b"/>
              <a:pathLst>
                <a:path w="2379" h="889">
                  <a:moveTo>
                    <a:pt x="0" y="625"/>
                  </a:moveTo>
                  <a:cubicBezTo>
                    <a:pt x="41" y="644"/>
                    <a:pt x="79" y="672"/>
                    <a:pt x="123" y="682"/>
                  </a:cubicBezTo>
                  <a:cubicBezTo>
                    <a:pt x="151" y="688"/>
                    <a:pt x="182" y="660"/>
                    <a:pt x="208" y="672"/>
                  </a:cubicBezTo>
                  <a:cubicBezTo>
                    <a:pt x="226" y="680"/>
                    <a:pt x="220" y="710"/>
                    <a:pt x="226" y="729"/>
                  </a:cubicBezTo>
                  <a:cubicBezTo>
                    <a:pt x="233" y="751"/>
                    <a:pt x="271" y="740"/>
                    <a:pt x="293" y="748"/>
                  </a:cubicBezTo>
                  <a:cubicBezTo>
                    <a:pt x="314" y="814"/>
                    <a:pt x="302" y="810"/>
                    <a:pt x="368" y="833"/>
                  </a:cubicBezTo>
                  <a:cubicBezTo>
                    <a:pt x="430" y="822"/>
                    <a:pt x="489" y="824"/>
                    <a:pt x="547" y="852"/>
                  </a:cubicBezTo>
                  <a:cubicBezTo>
                    <a:pt x="557" y="857"/>
                    <a:pt x="566" y="865"/>
                    <a:pt x="576" y="870"/>
                  </a:cubicBezTo>
                  <a:cubicBezTo>
                    <a:pt x="594" y="878"/>
                    <a:pt x="632" y="889"/>
                    <a:pt x="632" y="889"/>
                  </a:cubicBezTo>
                  <a:cubicBezTo>
                    <a:pt x="634" y="887"/>
                    <a:pt x="667" y="842"/>
                    <a:pt x="661" y="833"/>
                  </a:cubicBezTo>
                  <a:cubicBezTo>
                    <a:pt x="646" y="812"/>
                    <a:pt x="548" y="758"/>
                    <a:pt x="519" y="738"/>
                  </a:cubicBezTo>
                  <a:cubicBezTo>
                    <a:pt x="492" y="720"/>
                    <a:pt x="469" y="676"/>
                    <a:pt x="453" y="653"/>
                  </a:cubicBezTo>
                  <a:cubicBezTo>
                    <a:pt x="447" y="644"/>
                    <a:pt x="434" y="625"/>
                    <a:pt x="434" y="625"/>
                  </a:cubicBezTo>
                  <a:cubicBezTo>
                    <a:pt x="466" y="578"/>
                    <a:pt x="512" y="585"/>
                    <a:pt x="566" y="578"/>
                  </a:cubicBezTo>
                  <a:cubicBezTo>
                    <a:pt x="609" y="550"/>
                    <a:pt x="643" y="561"/>
                    <a:pt x="689" y="578"/>
                  </a:cubicBezTo>
                  <a:cubicBezTo>
                    <a:pt x="738" y="627"/>
                    <a:pt x="744" y="598"/>
                    <a:pt x="802" y="559"/>
                  </a:cubicBezTo>
                  <a:cubicBezTo>
                    <a:pt x="819" y="548"/>
                    <a:pt x="859" y="540"/>
                    <a:pt x="859" y="540"/>
                  </a:cubicBezTo>
                  <a:cubicBezTo>
                    <a:pt x="884" y="503"/>
                    <a:pt x="877" y="460"/>
                    <a:pt x="897" y="436"/>
                  </a:cubicBezTo>
                  <a:cubicBezTo>
                    <a:pt x="915" y="413"/>
                    <a:pt x="938" y="415"/>
                    <a:pt x="963" y="408"/>
                  </a:cubicBezTo>
                  <a:cubicBezTo>
                    <a:pt x="994" y="399"/>
                    <a:pt x="1017" y="380"/>
                    <a:pt x="1048" y="370"/>
                  </a:cubicBezTo>
                  <a:cubicBezTo>
                    <a:pt x="1061" y="351"/>
                    <a:pt x="1079" y="335"/>
                    <a:pt x="1086" y="313"/>
                  </a:cubicBezTo>
                  <a:cubicBezTo>
                    <a:pt x="1103" y="262"/>
                    <a:pt x="1097" y="200"/>
                    <a:pt x="1123" y="153"/>
                  </a:cubicBezTo>
                  <a:cubicBezTo>
                    <a:pt x="1148" y="107"/>
                    <a:pt x="1176" y="77"/>
                    <a:pt x="1208" y="39"/>
                  </a:cubicBezTo>
                  <a:cubicBezTo>
                    <a:pt x="1240" y="0"/>
                    <a:pt x="1210" y="16"/>
                    <a:pt x="1256" y="2"/>
                  </a:cubicBezTo>
                  <a:cubicBezTo>
                    <a:pt x="1317" y="43"/>
                    <a:pt x="1404" y="34"/>
                    <a:pt x="1473" y="39"/>
                  </a:cubicBezTo>
                  <a:cubicBezTo>
                    <a:pt x="1507" y="51"/>
                    <a:pt x="1536" y="56"/>
                    <a:pt x="1567" y="77"/>
                  </a:cubicBezTo>
                  <a:cubicBezTo>
                    <a:pt x="1578" y="109"/>
                    <a:pt x="1595" y="139"/>
                    <a:pt x="1577" y="172"/>
                  </a:cubicBezTo>
                  <a:cubicBezTo>
                    <a:pt x="1566" y="192"/>
                    <a:pt x="1539" y="228"/>
                    <a:pt x="1539" y="228"/>
                  </a:cubicBezTo>
                  <a:cubicBezTo>
                    <a:pt x="1515" y="304"/>
                    <a:pt x="1526" y="386"/>
                    <a:pt x="1511" y="464"/>
                  </a:cubicBezTo>
                  <a:cubicBezTo>
                    <a:pt x="1514" y="486"/>
                    <a:pt x="1515" y="508"/>
                    <a:pt x="1520" y="530"/>
                  </a:cubicBezTo>
                  <a:cubicBezTo>
                    <a:pt x="1524" y="550"/>
                    <a:pt x="1539" y="587"/>
                    <a:pt x="1539" y="587"/>
                  </a:cubicBezTo>
                  <a:cubicBezTo>
                    <a:pt x="1536" y="612"/>
                    <a:pt x="1508" y="692"/>
                    <a:pt x="1530" y="719"/>
                  </a:cubicBezTo>
                  <a:cubicBezTo>
                    <a:pt x="1536" y="727"/>
                    <a:pt x="1549" y="726"/>
                    <a:pt x="1558" y="729"/>
                  </a:cubicBezTo>
                  <a:cubicBezTo>
                    <a:pt x="1597" y="715"/>
                    <a:pt x="1629" y="675"/>
                    <a:pt x="1671" y="672"/>
                  </a:cubicBezTo>
                  <a:cubicBezTo>
                    <a:pt x="1759" y="666"/>
                    <a:pt x="1848" y="666"/>
                    <a:pt x="1936" y="663"/>
                  </a:cubicBezTo>
                  <a:cubicBezTo>
                    <a:pt x="1983" y="646"/>
                    <a:pt x="1999" y="614"/>
                    <a:pt x="2039" y="587"/>
                  </a:cubicBezTo>
                  <a:cubicBezTo>
                    <a:pt x="2083" y="521"/>
                    <a:pt x="2058" y="542"/>
                    <a:pt x="2106" y="512"/>
                  </a:cubicBezTo>
                  <a:cubicBezTo>
                    <a:pt x="2112" y="502"/>
                    <a:pt x="2115" y="490"/>
                    <a:pt x="2124" y="483"/>
                  </a:cubicBezTo>
                  <a:cubicBezTo>
                    <a:pt x="2132" y="477"/>
                    <a:pt x="2144" y="479"/>
                    <a:pt x="2153" y="474"/>
                  </a:cubicBezTo>
                  <a:cubicBezTo>
                    <a:pt x="2183" y="457"/>
                    <a:pt x="2214" y="441"/>
                    <a:pt x="2238" y="417"/>
                  </a:cubicBezTo>
                  <a:cubicBezTo>
                    <a:pt x="2266" y="389"/>
                    <a:pt x="2276" y="364"/>
                    <a:pt x="2313" y="351"/>
                  </a:cubicBezTo>
                  <a:cubicBezTo>
                    <a:pt x="2316" y="342"/>
                    <a:pt x="2316" y="330"/>
                    <a:pt x="2323" y="323"/>
                  </a:cubicBezTo>
                  <a:cubicBezTo>
                    <a:pt x="2339" y="307"/>
                    <a:pt x="2379" y="285"/>
                    <a:pt x="2379" y="285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400800" y="1219320"/>
            <a:ext cx="1820880" cy="4724280"/>
            <a:chOff x="6400800" y="1219320"/>
            <a:chExt cx="1820880" cy="4724280"/>
          </a:xfrm>
        </p:grpSpPr>
        <p:sp>
          <p:nvSpPr>
            <p:cNvPr id="337" name=""/>
            <p:cNvSpPr/>
            <p:nvPr/>
          </p:nvSpPr>
          <p:spPr>
            <a:xfrm>
              <a:off x="6934320" y="26748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61000" y="2895480"/>
              <a:ext cx="14472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05720" y="2527200"/>
              <a:ext cx="215640" cy="21600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53080" y="579924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42200" y="356868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18200" y="313704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20120" y="22096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96080" y="213372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48720" y="16002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77320" y="12193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35812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25146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00800" y="48085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29400" y="43513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93040" y="40384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873920" y="411480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96080" y="4038480"/>
              <a:ext cx="1447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6477120" y="1295280"/>
            <a:ext cx="1692000" cy="4572000"/>
            <a:chOff x="6477120" y="1295280"/>
            <a:chExt cx="1692000" cy="4572000"/>
          </a:xfrm>
        </p:grpSpPr>
        <p:sp>
          <p:nvSpPr>
            <p:cNvPr id="355" name=""/>
            <p:cNvSpPr/>
            <p:nvPr/>
          </p:nvSpPr>
          <p:spPr>
            <a:xfrm>
              <a:off x="7086600" y="1295280"/>
              <a:ext cx="1082520" cy="1455840"/>
            </a:xfrm>
            <a:custGeom>
              <a:avLst/>
              <a:gdLst/>
              <a:ahLst/>
              <a:rect l="l" t="t" r="r" b="b"/>
              <a:pathLst>
                <a:path w="682" h="917">
                  <a:moveTo>
                    <a:pt x="0" y="917"/>
                  </a:moveTo>
                  <a:cubicBezTo>
                    <a:pt x="24" y="901"/>
                    <a:pt x="55" y="894"/>
                    <a:pt x="71" y="870"/>
                  </a:cubicBezTo>
                  <a:cubicBezTo>
                    <a:pt x="126" y="787"/>
                    <a:pt x="94" y="815"/>
                    <a:pt x="153" y="776"/>
                  </a:cubicBezTo>
                  <a:cubicBezTo>
                    <a:pt x="183" y="686"/>
                    <a:pt x="140" y="792"/>
                    <a:pt x="200" y="717"/>
                  </a:cubicBezTo>
                  <a:cubicBezTo>
                    <a:pt x="208" y="707"/>
                    <a:pt x="203" y="691"/>
                    <a:pt x="212" y="682"/>
                  </a:cubicBezTo>
                  <a:cubicBezTo>
                    <a:pt x="289" y="606"/>
                    <a:pt x="258" y="654"/>
                    <a:pt x="318" y="623"/>
                  </a:cubicBezTo>
                  <a:cubicBezTo>
                    <a:pt x="331" y="617"/>
                    <a:pt x="340" y="605"/>
                    <a:pt x="353" y="599"/>
                  </a:cubicBezTo>
                  <a:cubicBezTo>
                    <a:pt x="376" y="589"/>
                    <a:pt x="424" y="576"/>
                    <a:pt x="424" y="576"/>
                  </a:cubicBezTo>
                  <a:cubicBezTo>
                    <a:pt x="436" y="568"/>
                    <a:pt x="452" y="564"/>
                    <a:pt x="459" y="552"/>
                  </a:cubicBezTo>
                  <a:cubicBezTo>
                    <a:pt x="472" y="531"/>
                    <a:pt x="468" y="502"/>
                    <a:pt x="482" y="482"/>
                  </a:cubicBezTo>
                  <a:cubicBezTo>
                    <a:pt x="490" y="470"/>
                    <a:pt x="498" y="459"/>
                    <a:pt x="506" y="447"/>
                  </a:cubicBezTo>
                  <a:cubicBezTo>
                    <a:pt x="539" y="347"/>
                    <a:pt x="488" y="509"/>
                    <a:pt x="529" y="317"/>
                  </a:cubicBezTo>
                  <a:cubicBezTo>
                    <a:pt x="553" y="203"/>
                    <a:pt x="599" y="83"/>
                    <a:pt x="682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58000" y="2590920"/>
              <a:ext cx="1143000" cy="1600200"/>
            </a:xfrm>
            <a:custGeom>
              <a:avLst/>
              <a:gdLst/>
              <a:ahLst/>
              <a:rect l="l" t="t" r="r" b="b"/>
              <a:pathLst>
                <a:path w="720" h="1008">
                  <a:moveTo>
                    <a:pt x="0" y="0"/>
                  </a:moveTo>
                  <a:cubicBezTo>
                    <a:pt x="36" y="16"/>
                    <a:pt x="72" y="32"/>
                    <a:pt x="96" y="96"/>
                  </a:cubicBezTo>
                  <a:cubicBezTo>
                    <a:pt x="120" y="160"/>
                    <a:pt x="128" y="288"/>
                    <a:pt x="144" y="384"/>
                  </a:cubicBezTo>
                  <a:cubicBezTo>
                    <a:pt x="160" y="480"/>
                    <a:pt x="144" y="576"/>
                    <a:pt x="192" y="672"/>
                  </a:cubicBezTo>
                  <a:cubicBezTo>
                    <a:pt x="240" y="768"/>
                    <a:pt x="368" y="912"/>
                    <a:pt x="432" y="960"/>
                  </a:cubicBezTo>
                  <a:cubicBezTo>
                    <a:pt x="496" y="1008"/>
                    <a:pt x="528" y="952"/>
                    <a:pt x="576" y="960"/>
                  </a:cubicBezTo>
                  <a:cubicBezTo>
                    <a:pt x="624" y="968"/>
                    <a:pt x="704" y="1000"/>
                    <a:pt x="720" y="10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77120" y="2590920"/>
              <a:ext cx="393480" cy="3276360"/>
            </a:xfrm>
            <a:custGeom>
              <a:avLst/>
              <a:gdLst/>
              <a:ahLst/>
              <a:rect l="l" t="t" r="r" b="b"/>
              <a:pathLst>
                <a:path w="248" h="2064">
                  <a:moveTo>
                    <a:pt x="248" y="0"/>
                  </a:moveTo>
                  <a:cubicBezTo>
                    <a:pt x="196" y="40"/>
                    <a:pt x="144" y="80"/>
                    <a:pt x="104" y="192"/>
                  </a:cubicBezTo>
                  <a:cubicBezTo>
                    <a:pt x="64" y="304"/>
                    <a:pt x="0" y="512"/>
                    <a:pt x="8" y="672"/>
                  </a:cubicBezTo>
                  <a:cubicBezTo>
                    <a:pt x="16" y="832"/>
                    <a:pt x="152" y="1024"/>
                    <a:pt x="152" y="1152"/>
                  </a:cubicBezTo>
                  <a:cubicBezTo>
                    <a:pt x="152" y="1280"/>
                    <a:pt x="16" y="1288"/>
                    <a:pt x="8" y="1440"/>
                  </a:cubicBezTo>
                  <a:cubicBezTo>
                    <a:pt x="0" y="1592"/>
                    <a:pt x="88" y="1960"/>
                    <a:pt x="104" y="206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410160" y="2133720"/>
            <a:ext cx="1692360" cy="3917880"/>
            <a:chOff x="6410160" y="2133720"/>
            <a:chExt cx="1692360" cy="3917880"/>
          </a:xfrm>
        </p:grpSpPr>
        <p:sp>
          <p:nvSpPr>
            <p:cNvPr id="359" name=""/>
            <p:cNvSpPr/>
            <p:nvPr/>
          </p:nvSpPr>
          <p:spPr>
            <a:xfrm>
              <a:off x="7491240" y="2133720"/>
              <a:ext cx="608040" cy="614520"/>
            </a:xfrm>
            <a:custGeom>
              <a:avLst/>
              <a:gdLst/>
              <a:ahLst/>
              <a:rect l="l" t="t" r="r" b="b"/>
              <a:pathLst>
                <a:path w="383" h="387">
                  <a:moveTo>
                    <a:pt x="0" y="200"/>
                  </a:moveTo>
                  <a:cubicBezTo>
                    <a:pt x="11" y="155"/>
                    <a:pt x="17" y="79"/>
                    <a:pt x="58" y="47"/>
                  </a:cubicBezTo>
                  <a:cubicBezTo>
                    <a:pt x="68" y="39"/>
                    <a:pt x="148" y="5"/>
                    <a:pt x="164" y="0"/>
                  </a:cubicBezTo>
                  <a:cubicBezTo>
                    <a:pt x="230" y="11"/>
                    <a:pt x="285" y="21"/>
                    <a:pt x="340" y="59"/>
                  </a:cubicBezTo>
                  <a:cubicBezTo>
                    <a:pt x="357" y="108"/>
                    <a:pt x="383" y="147"/>
                    <a:pt x="352" y="200"/>
                  </a:cubicBezTo>
                  <a:cubicBezTo>
                    <a:pt x="346" y="211"/>
                    <a:pt x="329" y="207"/>
                    <a:pt x="317" y="211"/>
                  </a:cubicBezTo>
                  <a:cubicBezTo>
                    <a:pt x="293" y="227"/>
                    <a:pt x="270" y="242"/>
                    <a:pt x="246" y="258"/>
                  </a:cubicBezTo>
                  <a:cubicBezTo>
                    <a:pt x="234" y="266"/>
                    <a:pt x="233" y="284"/>
                    <a:pt x="223" y="294"/>
                  </a:cubicBezTo>
                  <a:cubicBezTo>
                    <a:pt x="213" y="304"/>
                    <a:pt x="200" y="309"/>
                    <a:pt x="188" y="317"/>
                  </a:cubicBezTo>
                  <a:cubicBezTo>
                    <a:pt x="169" y="372"/>
                    <a:pt x="162" y="383"/>
                    <a:pt x="105" y="364"/>
                  </a:cubicBezTo>
                  <a:cubicBezTo>
                    <a:pt x="137" y="271"/>
                    <a:pt x="105" y="387"/>
                    <a:pt x="105" y="294"/>
                  </a:cubicBezTo>
                  <a:cubicBezTo>
                    <a:pt x="105" y="256"/>
                    <a:pt x="122" y="240"/>
                    <a:pt x="141" y="211"/>
                  </a:cubicBezTo>
                  <a:cubicBezTo>
                    <a:pt x="137" y="192"/>
                    <a:pt x="146" y="163"/>
                    <a:pt x="129" y="153"/>
                  </a:cubicBezTo>
                  <a:cubicBezTo>
                    <a:pt x="94" y="133"/>
                    <a:pt x="24" y="175"/>
                    <a:pt x="0" y="200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23000" y="2417760"/>
              <a:ext cx="525240" cy="466920"/>
            </a:xfrm>
            <a:custGeom>
              <a:avLst/>
              <a:gdLst/>
              <a:ahLst/>
              <a:rect l="l" t="t" r="r" b="b"/>
              <a:pathLst>
                <a:path w="331" h="294">
                  <a:moveTo>
                    <a:pt x="331" y="162"/>
                  </a:moveTo>
                  <a:cubicBezTo>
                    <a:pt x="276" y="79"/>
                    <a:pt x="308" y="106"/>
                    <a:pt x="248" y="68"/>
                  </a:cubicBezTo>
                  <a:cubicBezTo>
                    <a:pt x="204" y="0"/>
                    <a:pt x="169" y="20"/>
                    <a:pt x="96" y="32"/>
                  </a:cubicBezTo>
                  <a:cubicBezTo>
                    <a:pt x="84" y="36"/>
                    <a:pt x="69" y="35"/>
                    <a:pt x="60" y="44"/>
                  </a:cubicBezTo>
                  <a:cubicBezTo>
                    <a:pt x="51" y="53"/>
                    <a:pt x="54" y="68"/>
                    <a:pt x="49" y="79"/>
                  </a:cubicBezTo>
                  <a:cubicBezTo>
                    <a:pt x="0" y="179"/>
                    <a:pt x="45" y="56"/>
                    <a:pt x="13" y="150"/>
                  </a:cubicBezTo>
                  <a:cubicBezTo>
                    <a:pt x="21" y="174"/>
                    <a:pt x="29" y="197"/>
                    <a:pt x="37" y="221"/>
                  </a:cubicBezTo>
                  <a:cubicBezTo>
                    <a:pt x="50" y="260"/>
                    <a:pt x="144" y="279"/>
                    <a:pt x="178" y="291"/>
                  </a:cubicBezTo>
                  <a:cubicBezTo>
                    <a:pt x="249" y="273"/>
                    <a:pt x="220" y="294"/>
                    <a:pt x="248" y="209"/>
                  </a:cubicBezTo>
                  <a:cubicBezTo>
                    <a:pt x="256" y="184"/>
                    <a:pt x="313" y="179"/>
                    <a:pt x="331" y="162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54880" y="3916440"/>
              <a:ext cx="647640" cy="493560"/>
            </a:xfrm>
            <a:custGeom>
              <a:avLst/>
              <a:gdLst/>
              <a:ahLst/>
              <a:rect l="l" t="t" r="r" b="b"/>
              <a:pathLst>
                <a:path w="408" h="311">
                  <a:moveTo>
                    <a:pt x="305" y="52"/>
                  </a:moveTo>
                  <a:cubicBezTo>
                    <a:pt x="213" y="38"/>
                    <a:pt x="93" y="0"/>
                    <a:pt x="34" y="88"/>
                  </a:cubicBezTo>
                  <a:cubicBezTo>
                    <a:pt x="0" y="195"/>
                    <a:pt x="100" y="169"/>
                    <a:pt x="175" y="193"/>
                  </a:cubicBezTo>
                  <a:cubicBezTo>
                    <a:pt x="179" y="205"/>
                    <a:pt x="184" y="217"/>
                    <a:pt x="187" y="229"/>
                  </a:cubicBezTo>
                  <a:cubicBezTo>
                    <a:pt x="192" y="248"/>
                    <a:pt x="185" y="273"/>
                    <a:pt x="199" y="287"/>
                  </a:cubicBezTo>
                  <a:cubicBezTo>
                    <a:pt x="216" y="304"/>
                    <a:pt x="269" y="311"/>
                    <a:pt x="269" y="311"/>
                  </a:cubicBezTo>
                  <a:cubicBezTo>
                    <a:pt x="281" y="307"/>
                    <a:pt x="296" y="308"/>
                    <a:pt x="305" y="299"/>
                  </a:cubicBezTo>
                  <a:cubicBezTo>
                    <a:pt x="401" y="204"/>
                    <a:pt x="307" y="244"/>
                    <a:pt x="387" y="217"/>
                  </a:cubicBezTo>
                  <a:cubicBezTo>
                    <a:pt x="405" y="164"/>
                    <a:pt x="408" y="153"/>
                    <a:pt x="352" y="135"/>
                  </a:cubicBezTo>
                  <a:cubicBezTo>
                    <a:pt x="344" y="123"/>
                    <a:pt x="325" y="113"/>
                    <a:pt x="328" y="99"/>
                  </a:cubicBezTo>
                  <a:cubicBezTo>
                    <a:pt x="331" y="85"/>
                    <a:pt x="363" y="90"/>
                    <a:pt x="363" y="76"/>
                  </a:cubicBezTo>
                  <a:cubicBezTo>
                    <a:pt x="363" y="48"/>
                    <a:pt x="320" y="52"/>
                    <a:pt x="305" y="52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10160" y="5716800"/>
              <a:ext cx="457200" cy="334800"/>
            </a:xfrm>
            <a:custGeom>
              <a:avLst/>
              <a:gdLst/>
              <a:ahLst/>
              <a:rect l="l" t="t" r="r" b="b"/>
              <a:pathLst>
                <a:path w="288" h="211">
                  <a:moveTo>
                    <a:pt x="281" y="153"/>
                  </a:moveTo>
                  <a:cubicBezTo>
                    <a:pt x="275" y="121"/>
                    <a:pt x="280" y="82"/>
                    <a:pt x="257" y="59"/>
                  </a:cubicBezTo>
                  <a:cubicBezTo>
                    <a:pt x="217" y="19"/>
                    <a:pt x="196" y="15"/>
                    <a:pt x="152" y="0"/>
                  </a:cubicBezTo>
                  <a:cubicBezTo>
                    <a:pt x="62" y="15"/>
                    <a:pt x="41" y="4"/>
                    <a:pt x="10" y="94"/>
                  </a:cubicBezTo>
                  <a:cubicBezTo>
                    <a:pt x="29" y="189"/>
                    <a:pt x="0" y="132"/>
                    <a:pt x="58" y="164"/>
                  </a:cubicBezTo>
                  <a:cubicBezTo>
                    <a:pt x="83" y="177"/>
                    <a:pt x="128" y="211"/>
                    <a:pt x="128" y="211"/>
                  </a:cubicBezTo>
                  <a:cubicBezTo>
                    <a:pt x="152" y="203"/>
                    <a:pt x="174" y="192"/>
                    <a:pt x="199" y="188"/>
                  </a:cubicBezTo>
                  <a:cubicBezTo>
                    <a:pt x="226" y="184"/>
                    <a:pt x="256" y="187"/>
                    <a:pt x="281" y="176"/>
                  </a:cubicBezTo>
                  <a:cubicBezTo>
                    <a:pt x="288" y="173"/>
                    <a:pt x="281" y="161"/>
                    <a:pt x="281" y="153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561000" y="2133720"/>
            <a:ext cx="1440000" cy="3809880"/>
            <a:chOff x="6561000" y="2133720"/>
            <a:chExt cx="1440000" cy="3809880"/>
          </a:xfrm>
        </p:grpSpPr>
        <p:grpSp>
          <p:nvGrpSpPr>
            <p:cNvPr id="364" name=""/>
            <p:cNvGrpSpPr/>
            <p:nvPr/>
          </p:nvGrpSpPr>
          <p:grpSpPr>
            <a:xfrm>
              <a:off x="6713640" y="2133720"/>
              <a:ext cx="1287360" cy="685800"/>
              <a:chOff x="6713640" y="2133720"/>
              <a:chExt cx="1287360" cy="68580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7628040" y="2133720"/>
                <a:ext cx="372960" cy="601560"/>
                <a:chOff x="7628040" y="2133720"/>
                <a:chExt cx="372960" cy="6015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7856640" y="2133720"/>
                  <a:ext cx="144360" cy="144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628040" y="2209680"/>
                  <a:ext cx="144360" cy="144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704000" y="2133720"/>
                  <a:ext cx="144720" cy="144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635960" y="2590920"/>
                  <a:ext cx="144360" cy="144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713640" y="2514600"/>
                <a:ext cx="601560" cy="304920"/>
                <a:chOff x="6713640" y="2514600"/>
                <a:chExt cx="601560" cy="3049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942240" y="2674800"/>
                  <a:ext cx="144360" cy="144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713640" y="2527200"/>
                  <a:ext cx="215640" cy="216000"/>
                </a:xfrm>
                <a:prstGeom prst="star5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70840" y="2514600"/>
                  <a:ext cx="144360" cy="144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4" name=""/>
            <p:cNvGrpSpPr/>
            <p:nvPr/>
          </p:nvGrpSpPr>
          <p:grpSpPr>
            <a:xfrm>
              <a:off x="7475400" y="4038480"/>
              <a:ext cx="525600" cy="381240"/>
              <a:chOff x="7475400" y="4038480"/>
              <a:chExt cx="525600" cy="381240"/>
            </a:xfrm>
          </p:grpSpPr>
          <p:sp>
            <p:nvSpPr>
              <p:cNvPr id="375" name=""/>
              <p:cNvSpPr/>
              <p:nvPr/>
            </p:nvSpPr>
            <p:spPr>
              <a:xfrm>
                <a:off x="7628040" y="4275000"/>
                <a:ext cx="14436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475400" y="4038480"/>
                <a:ext cx="14472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856640" y="4114800"/>
                <a:ext cx="1443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704000" y="4038480"/>
                <a:ext cx="14472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561000" y="579924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553080" y="2133720"/>
            <a:ext cx="1440000" cy="3809880"/>
            <a:chOff x="6553080" y="2133720"/>
            <a:chExt cx="1440000" cy="3809880"/>
          </a:xfrm>
        </p:grpSpPr>
        <p:grpSp>
          <p:nvGrpSpPr>
            <p:cNvPr id="381" name=""/>
            <p:cNvGrpSpPr/>
            <p:nvPr/>
          </p:nvGrpSpPr>
          <p:grpSpPr>
            <a:xfrm>
              <a:off x="6705720" y="2133720"/>
              <a:ext cx="1287360" cy="685800"/>
              <a:chOff x="6705720" y="2133720"/>
              <a:chExt cx="1287360" cy="6858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7620120" y="2133720"/>
                <a:ext cx="372960" cy="601560"/>
                <a:chOff x="7620120" y="2133720"/>
                <a:chExt cx="372960" cy="6015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7848720" y="2133720"/>
                  <a:ext cx="144360" cy="144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620120" y="2209680"/>
                  <a:ext cx="144360" cy="144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696080" y="2133720"/>
                  <a:ext cx="144720" cy="144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628040" y="2590920"/>
                  <a:ext cx="144360" cy="144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705720" y="2514600"/>
                <a:ext cx="601560" cy="304920"/>
                <a:chOff x="6705720" y="2514600"/>
                <a:chExt cx="601560" cy="3049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934320" y="2674800"/>
                  <a:ext cx="144360" cy="144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705720" y="2527200"/>
                  <a:ext cx="215640" cy="216000"/>
                </a:xfrm>
                <a:prstGeom prst="star5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162920" y="2514600"/>
                  <a:ext cx="144360" cy="144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1" name=""/>
            <p:cNvGrpSpPr/>
            <p:nvPr/>
          </p:nvGrpSpPr>
          <p:grpSpPr>
            <a:xfrm>
              <a:off x="7467480" y="4038480"/>
              <a:ext cx="525600" cy="381240"/>
              <a:chOff x="7467480" y="4038480"/>
              <a:chExt cx="525600" cy="381240"/>
            </a:xfrm>
          </p:grpSpPr>
          <p:sp>
            <p:nvSpPr>
              <p:cNvPr id="392" name=""/>
              <p:cNvSpPr/>
              <p:nvPr/>
            </p:nvSpPr>
            <p:spPr>
              <a:xfrm>
                <a:off x="7620120" y="4275000"/>
                <a:ext cx="14436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467480" y="4038480"/>
                <a:ext cx="14472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848720" y="4114800"/>
                <a:ext cx="1443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696080" y="4038480"/>
                <a:ext cx="14472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6553080" y="579924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>
            <a:hlinkClick r:id="rId2" action="ppaction://hlinksldjump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57200" y="380880"/>
            <a:ext cx="5128200" cy="6159600"/>
            <a:chOff x="457200" y="380880"/>
            <a:chExt cx="5128200" cy="6159600"/>
          </a:xfrm>
        </p:grpSpPr>
        <p:grpSp>
          <p:nvGrpSpPr>
            <p:cNvPr id="399" name=""/>
            <p:cNvGrpSpPr/>
            <p:nvPr/>
          </p:nvGrpSpPr>
          <p:grpSpPr>
            <a:xfrm>
              <a:off x="457200" y="6172200"/>
              <a:ext cx="1221840" cy="368280"/>
              <a:chOff x="457200" y="6172200"/>
              <a:chExt cx="1221840" cy="368280"/>
            </a:xfrm>
          </p:grpSpPr>
          <p:sp>
            <p:nvSpPr>
              <p:cNvPr id="400" name=""/>
              <p:cNvSpPr/>
              <p:nvPr/>
            </p:nvSpPr>
            <p:spPr>
              <a:xfrm>
                <a:off x="457200" y="624852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949680" y="617220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工业中心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3758760" y="38088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8080"/>
                  </a:solidFill>
                  <a:latin typeface="Times New Roman"/>
                </a:rPr>
                <a:t>我国工业中心分布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8580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grpSp>
        <p:nvGrpSpPr>
          <p:cNvPr id="405" name=""/>
          <p:cNvGrpSpPr/>
          <p:nvPr/>
        </p:nvGrpSpPr>
        <p:grpSpPr>
          <a:xfrm>
            <a:off x="2514600" y="2593800"/>
            <a:ext cx="5334120" cy="2851200"/>
            <a:chOff x="2514600" y="2593800"/>
            <a:chExt cx="5334120" cy="2851200"/>
          </a:xfrm>
        </p:grpSpPr>
        <p:sp>
          <p:nvSpPr>
            <p:cNvPr id="406" name=""/>
            <p:cNvSpPr/>
            <p:nvPr/>
          </p:nvSpPr>
          <p:spPr>
            <a:xfrm>
              <a:off x="2514600" y="3657600"/>
              <a:ext cx="5334120" cy="1787400"/>
            </a:xfrm>
            <a:custGeom>
              <a:avLst/>
              <a:gdLst/>
              <a:ahLst/>
              <a:rect l="l" t="t" r="r" b="b"/>
              <a:pathLst>
                <a:path w="3353" h="1109">
                  <a:moveTo>
                    <a:pt x="0" y="5"/>
                  </a:moveTo>
                  <a:cubicBezTo>
                    <a:pt x="63" y="15"/>
                    <a:pt x="115" y="26"/>
                    <a:pt x="180" y="33"/>
                  </a:cubicBezTo>
                  <a:cubicBezTo>
                    <a:pt x="267" y="62"/>
                    <a:pt x="217" y="54"/>
                    <a:pt x="331" y="42"/>
                  </a:cubicBezTo>
                  <a:cubicBezTo>
                    <a:pt x="340" y="39"/>
                    <a:pt x="351" y="39"/>
                    <a:pt x="359" y="33"/>
                  </a:cubicBezTo>
                  <a:cubicBezTo>
                    <a:pt x="368" y="26"/>
                    <a:pt x="367" y="7"/>
                    <a:pt x="378" y="5"/>
                  </a:cubicBezTo>
                  <a:cubicBezTo>
                    <a:pt x="400" y="0"/>
                    <a:pt x="422" y="11"/>
                    <a:pt x="444" y="14"/>
                  </a:cubicBezTo>
                  <a:cubicBezTo>
                    <a:pt x="467" y="48"/>
                    <a:pt x="482" y="49"/>
                    <a:pt x="520" y="61"/>
                  </a:cubicBezTo>
                  <a:cubicBezTo>
                    <a:pt x="563" y="126"/>
                    <a:pt x="536" y="111"/>
                    <a:pt x="586" y="127"/>
                  </a:cubicBezTo>
                  <a:cubicBezTo>
                    <a:pt x="605" y="140"/>
                    <a:pt x="631" y="146"/>
                    <a:pt x="643" y="165"/>
                  </a:cubicBezTo>
                  <a:cubicBezTo>
                    <a:pt x="649" y="174"/>
                    <a:pt x="652" y="186"/>
                    <a:pt x="661" y="193"/>
                  </a:cubicBezTo>
                  <a:cubicBezTo>
                    <a:pt x="669" y="199"/>
                    <a:pt x="680" y="200"/>
                    <a:pt x="690" y="203"/>
                  </a:cubicBezTo>
                  <a:cubicBezTo>
                    <a:pt x="704" y="223"/>
                    <a:pt x="724" y="239"/>
                    <a:pt x="737" y="260"/>
                  </a:cubicBezTo>
                  <a:cubicBezTo>
                    <a:pt x="772" y="314"/>
                    <a:pt x="712" y="265"/>
                    <a:pt x="775" y="307"/>
                  </a:cubicBezTo>
                  <a:cubicBezTo>
                    <a:pt x="815" y="366"/>
                    <a:pt x="828" y="411"/>
                    <a:pt x="850" y="477"/>
                  </a:cubicBezTo>
                  <a:cubicBezTo>
                    <a:pt x="859" y="505"/>
                    <a:pt x="879" y="562"/>
                    <a:pt x="879" y="562"/>
                  </a:cubicBezTo>
                  <a:cubicBezTo>
                    <a:pt x="882" y="581"/>
                    <a:pt x="888" y="599"/>
                    <a:pt x="888" y="618"/>
                  </a:cubicBezTo>
                  <a:cubicBezTo>
                    <a:pt x="888" y="760"/>
                    <a:pt x="865" y="780"/>
                    <a:pt x="916" y="883"/>
                  </a:cubicBezTo>
                  <a:cubicBezTo>
                    <a:pt x="938" y="927"/>
                    <a:pt x="924" y="961"/>
                    <a:pt x="973" y="977"/>
                  </a:cubicBezTo>
                  <a:cubicBezTo>
                    <a:pt x="979" y="968"/>
                    <a:pt x="988" y="960"/>
                    <a:pt x="992" y="949"/>
                  </a:cubicBezTo>
                  <a:cubicBezTo>
                    <a:pt x="1012" y="897"/>
                    <a:pt x="983" y="884"/>
                    <a:pt x="1030" y="930"/>
                  </a:cubicBezTo>
                  <a:cubicBezTo>
                    <a:pt x="1044" y="974"/>
                    <a:pt x="1024" y="973"/>
                    <a:pt x="1011" y="1015"/>
                  </a:cubicBezTo>
                  <a:cubicBezTo>
                    <a:pt x="1014" y="1024"/>
                    <a:pt x="1022" y="1033"/>
                    <a:pt x="1020" y="1043"/>
                  </a:cubicBezTo>
                  <a:cubicBezTo>
                    <a:pt x="1012" y="1086"/>
                    <a:pt x="975" y="1064"/>
                    <a:pt x="1030" y="1081"/>
                  </a:cubicBezTo>
                  <a:cubicBezTo>
                    <a:pt x="1058" y="1072"/>
                    <a:pt x="1086" y="1062"/>
                    <a:pt x="1115" y="1053"/>
                  </a:cubicBezTo>
                  <a:cubicBezTo>
                    <a:pt x="1167" y="1066"/>
                    <a:pt x="1158" y="1081"/>
                    <a:pt x="1200" y="1109"/>
                  </a:cubicBezTo>
                  <a:cubicBezTo>
                    <a:pt x="1234" y="1086"/>
                    <a:pt x="1274" y="1065"/>
                    <a:pt x="1313" y="1053"/>
                  </a:cubicBezTo>
                  <a:cubicBezTo>
                    <a:pt x="1319" y="1043"/>
                    <a:pt x="1330" y="1035"/>
                    <a:pt x="1332" y="1024"/>
                  </a:cubicBezTo>
                  <a:cubicBezTo>
                    <a:pt x="1334" y="1014"/>
                    <a:pt x="1322" y="1006"/>
                    <a:pt x="1322" y="996"/>
                  </a:cubicBezTo>
                  <a:cubicBezTo>
                    <a:pt x="1322" y="933"/>
                    <a:pt x="1320" y="943"/>
                    <a:pt x="1360" y="930"/>
                  </a:cubicBezTo>
                  <a:cubicBezTo>
                    <a:pt x="1372" y="897"/>
                    <a:pt x="1359" y="855"/>
                    <a:pt x="1379" y="826"/>
                  </a:cubicBezTo>
                  <a:cubicBezTo>
                    <a:pt x="1391" y="809"/>
                    <a:pt x="1490" y="800"/>
                    <a:pt x="1502" y="798"/>
                  </a:cubicBezTo>
                  <a:cubicBezTo>
                    <a:pt x="1556" y="779"/>
                    <a:pt x="1593" y="765"/>
                    <a:pt x="1643" y="732"/>
                  </a:cubicBezTo>
                  <a:cubicBezTo>
                    <a:pt x="1660" y="721"/>
                    <a:pt x="1700" y="713"/>
                    <a:pt x="1700" y="713"/>
                  </a:cubicBezTo>
                  <a:cubicBezTo>
                    <a:pt x="1734" y="678"/>
                    <a:pt x="1771" y="665"/>
                    <a:pt x="1813" y="637"/>
                  </a:cubicBezTo>
                  <a:cubicBezTo>
                    <a:pt x="1823" y="631"/>
                    <a:pt x="1842" y="618"/>
                    <a:pt x="1842" y="618"/>
                  </a:cubicBezTo>
                  <a:cubicBezTo>
                    <a:pt x="1878" y="565"/>
                    <a:pt x="1841" y="608"/>
                    <a:pt x="1889" y="581"/>
                  </a:cubicBezTo>
                  <a:cubicBezTo>
                    <a:pt x="1919" y="565"/>
                    <a:pt x="1967" y="516"/>
                    <a:pt x="2002" y="505"/>
                  </a:cubicBezTo>
                  <a:cubicBezTo>
                    <a:pt x="2042" y="492"/>
                    <a:pt x="2084" y="487"/>
                    <a:pt x="2125" y="477"/>
                  </a:cubicBezTo>
                  <a:cubicBezTo>
                    <a:pt x="2134" y="479"/>
                    <a:pt x="2180" y="489"/>
                    <a:pt x="2191" y="496"/>
                  </a:cubicBezTo>
                  <a:cubicBezTo>
                    <a:pt x="2261" y="544"/>
                    <a:pt x="2179" y="510"/>
                    <a:pt x="2248" y="533"/>
                  </a:cubicBezTo>
                  <a:cubicBezTo>
                    <a:pt x="2267" y="539"/>
                    <a:pt x="2304" y="552"/>
                    <a:pt x="2304" y="552"/>
                  </a:cubicBezTo>
                  <a:cubicBezTo>
                    <a:pt x="2314" y="558"/>
                    <a:pt x="2322" y="566"/>
                    <a:pt x="2333" y="571"/>
                  </a:cubicBezTo>
                  <a:cubicBezTo>
                    <a:pt x="2351" y="579"/>
                    <a:pt x="2389" y="590"/>
                    <a:pt x="2389" y="590"/>
                  </a:cubicBezTo>
                  <a:cubicBezTo>
                    <a:pt x="2405" y="635"/>
                    <a:pt x="2416" y="625"/>
                    <a:pt x="2456" y="618"/>
                  </a:cubicBezTo>
                  <a:cubicBezTo>
                    <a:pt x="2481" y="613"/>
                    <a:pt x="2506" y="612"/>
                    <a:pt x="2531" y="609"/>
                  </a:cubicBezTo>
                  <a:cubicBezTo>
                    <a:pt x="2550" y="602"/>
                    <a:pt x="2570" y="600"/>
                    <a:pt x="2588" y="590"/>
                  </a:cubicBezTo>
                  <a:cubicBezTo>
                    <a:pt x="2608" y="579"/>
                    <a:pt x="2644" y="552"/>
                    <a:pt x="2644" y="552"/>
                  </a:cubicBezTo>
                  <a:cubicBezTo>
                    <a:pt x="2650" y="543"/>
                    <a:pt x="2666" y="535"/>
                    <a:pt x="2663" y="524"/>
                  </a:cubicBezTo>
                  <a:cubicBezTo>
                    <a:pt x="2655" y="490"/>
                    <a:pt x="2609" y="532"/>
                    <a:pt x="2607" y="533"/>
                  </a:cubicBezTo>
                  <a:cubicBezTo>
                    <a:pt x="2601" y="543"/>
                    <a:pt x="2577" y="559"/>
                    <a:pt x="2588" y="562"/>
                  </a:cubicBezTo>
                  <a:cubicBezTo>
                    <a:pt x="2607" y="567"/>
                    <a:pt x="2644" y="543"/>
                    <a:pt x="2644" y="543"/>
                  </a:cubicBezTo>
                  <a:cubicBezTo>
                    <a:pt x="2660" y="546"/>
                    <a:pt x="2678" y="544"/>
                    <a:pt x="2692" y="552"/>
                  </a:cubicBezTo>
                  <a:cubicBezTo>
                    <a:pt x="2702" y="558"/>
                    <a:pt x="2701" y="575"/>
                    <a:pt x="2711" y="581"/>
                  </a:cubicBezTo>
                  <a:cubicBezTo>
                    <a:pt x="2728" y="591"/>
                    <a:pt x="2767" y="599"/>
                    <a:pt x="2767" y="599"/>
                  </a:cubicBezTo>
                  <a:cubicBezTo>
                    <a:pt x="2847" y="574"/>
                    <a:pt x="2806" y="593"/>
                    <a:pt x="2880" y="543"/>
                  </a:cubicBezTo>
                  <a:cubicBezTo>
                    <a:pt x="2890" y="537"/>
                    <a:pt x="2899" y="530"/>
                    <a:pt x="2909" y="524"/>
                  </a:cubicBezTo>
                  <a:cubicBezTo>
                    <a:pt x="2918" y="518"/>
                    <a:pt x="2937" y="505"/>
                    <a:pt x="2937" y="505"/>
                  </a:cubicBezTo>
                  <a:cubicBezTo>
                    <a:pt x="2966" y="461"/>
                    <a:pt x="2974" y="426"/>
                    <a:pt x="3022" y="411"/>
                  </a:cubicBezTo>
                  <a:cubicBezTo>
                    <a:pt x="3036" y="390"/>
                    <a:pt x="3091" y="280"/>
                    <a:pt x="3117" y="278"/>
                  </a:cubicBezTo>
                  <a:cubicBezTo>
                    <a:pt x="3195" y="272"/>
                    <a:pt x="3274" y="278"/>
                    <a:pt x="3353" y="27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22600" y="2593800"/>
              <a:ext cx="3776760" cy="1411560"/>
            </a:xfrm>
            <a:custGeom>
              <a:avLst/>
              <a:gdLst/>
              <a:ahLst/>
              <a:rect l="l" t="t" r="r" b="b"/>
              <a:pathLst>
                <a:path w="2379" h="889">
                  <a:moveTo>
                    <a:pt x="0" y="625"/>
                  </a:moveTo>
                  <a:cubicBezTo>
                    <a:pt x="41" y="644"/>
                    <a:pt x="79" y="672"/>
                    <a:pt x="123" y="682"/>
                  </a:cubicBezTo>
                  <a:cubicBezTo>
                    <a:pt x="151" y="688"/>
                    <a:pt x="182" y="660"/>
                    <a:pt x="208" y="672"/>
                  </a:cubicBezTo>
                  <a:cubicBezTo>
                    <a:pt x="226" y="680"/>
                    <a:pt x="220" y="710"/>
                    <a:pt x="226" y="729"/>
                  </a:cubicBezTo>
                  <a:cubicBezTo>
                    <a:pt x="233" y="751"/>
                    <a:pt x="271" y="740"/>
                    <a:pt x="293" y="748"/>
                  </a:cubicBezTo>
                  <a:cubicBezTo>
                    <a:pt x="314" y="814"/>
                    <a:pt x="302" y="810"/>
                    <a:pt x="368" y="833"/>
                  </a:cubicBezTo>
                  <a:cubicBezTo>
                    <a:pt x="430" y="822"/>
                    <a:pt x="489" y="824"/>
                    <a:pt x="547" y="852"/>
                  </a:cubicBezTo>
                  <a:cubicBezTo>
                    <a:pt x="557" y="857"/>
                    <a:pt x="566" y="865"/>
                    <a:pt x="576" y="870"/>
                  </a:cubicBezTo>
                  <a:cubicBezTo>
                    <a:pt x="594" y="878"/>
                    <a:pt x="632" y="889"/>
                    <a:pt x="632" y="889"/>
                  </a:cubicBezTo>
                  <a:cubicBezTo>
                    <a:pt x="634" y="887"/>
                    <a:pt x="667" y="842"/>
                    <a:pt x="661" y="833"/>
                  </a:cubicBezTo>
                  <a:cubicBezTo>
                    <a:pt x="646" y="812"/>
                    <a:pt x="548" y="758"/>
                    <a:pt x="519" y="738"/>
                  </a:cubicBezTo>
                  <a:cubicBezTo>
                    <a:pt x="492" y="720"/>
                    <a:pt x="469" y="676"/>
                    <a:pt x="453" y="653"/>
                  </a:cubicBezTo>
                  <a:cubicBezTo>
                    <a:pt x="447" y="644"/>
                    <a:pt x="434" y="625"/>
                    <a:pt x="434" y="625"/>
                  </a:cubicBezTo>
                  <a:cubicBezTo>
                    <a:pt x="466" y="578"/>
                    <a:pt x="512" y="585"/>
                    <a:pt x="566" y="578"/>
                  </a:cubicBezTo>
                  <a:cubicBezTo>
                    <a:pt x="609" y="550"/>
                    <a:pt x="643" y="561"/>
                    <a:pt x="689" y="578"/>
                  </a:cubicBezTo>
                  <a:cubicBezTo>
                    <a:pt x="738" y="627"/>
                    <a:pt x="744" y="598"/>
                    <a:pt x="802" y="559"/>
                  </a:cubicBezTo>
                  <a:cubicBezTo>
                    <a:pt x="819" y="548"/>
                    <a:pt x="859" y="540"/>
                    <a:pt x="859" y="540"/>
                  </a:cubicBezTo>
                  <a:cubicBezTo>
                    <a:pt x="884" y="503"/>
                    <a:pt x="877" y="460"/>
                    <a:pt x="897" y="436"/>
                  </a:cubicBezTo>
                  <a:cubicBezTo>
                    <a:pt x="915" y="413"/>
                    <a:pt x="938" y="415"/>
                    <a:pt x="963" y="408"/>
                  </a:cubicBezTo>
                  <a:cubicBezTo>
                    <a:pt x="994" y="399"/>
                    <a:pt x="1017" y="380"/>
                    <a:pt x="1048" y="370"/>
                  </a:cubicBezTo>
                  <a:cubicBezTo>
                    <a:pt x="1061" y="351"/>
                    <a:pt x="1079" y="335"/>
                    <a:pt x="1086" y="313"/>
                  </a:cubicBezTo>
                  <a:cubicBezTo>
                    <a:pt x="1103" y="262"/>
                    <a:pt x="1097" y="200"/>
                    <a:pt x="1123" y="153"/>
                  </a:cubicBezTo>
                  <a:cubicBezTo>
                    <a:pt x="1148" y="107"/>
                    <a:pt x="1176" y="77"/>
                    <a:pt x="1208" y="39"/>
                  </a:cubicBezTo>
                  <a:cubicBezTo>
                    <a:pt x="1240" y="0"/>
                    <a:pt x="1210" y="16"/>
                    <a:pt x="1256" y="2"/>
                  </a:cubicBezTo>
                  <a:cubicBezTo>
                    <a:pt x="1317" y="43"/>
                    <a:pt x="1404" y="34"/>
                    <a:pt x="1473" y="39"/>
                  </a:cubicBezTo>
                  <a:cubicBezTo>
                    <a:pt x="1507" y="51"/>
                    <a:pt x="1536" y="56"/>
                    <a:pt x="1567" y="77"/>
                  </a:cubicBezTo>
                  <a:cubicBezTo>
                    <a:pt x="1578" y="109"/>
                    <a:pt x="1595" y="139"/>
                    <a:pt x="1577" y="172"/>
                  </a:cubicBezTo>
                  <a:cubicBezTo>
                    <a:pt x="1566" y="192"/>
                    <a:pt x="1539" y="228"/>
                    <a:pt x="1539" y="228"/>
                  </a:cubicBezTo>
                  <a:cubicBezTo>
                    <a:pt x="1515" y="304"/>
                    <a:pt x="1526" y="386"/>
                    <a:pt x="1511" y="464"/>
                  </a:cubicBezTo>
                  <a:cubicBezTo>
                    <a:pt x="1514" y="486"/>
                    <a:pt x="1515" y="508"/>
                    <a:pt x="1520" y="530"/>
                  </a:cubicBezTo>
                  <a:cubicBezTo>
                    <a:pt x="1524" y="550"/>
                    <a:pt x="1539" y="587"/>
                    <a:pt x="1539" y="587"/>
                  </a:cubicBezTo>
                  <a:cubicBezTo>
                    <a:pt x="1536" y="612"/>
                    <a:pt x="1508" y="692"/>
                    <a:pt x="1530" y="719"/>
                  </a:cubicBezTo>
                  <a:cubicBezTo>
                    <a:pt x="1536" y="727"/>
                    <a:pt x="1549" y="726"/>
                    <a:pt x="1558" y="729"/>
                  </a:cubicBezTo>
                  <a:cubicBezTo>
                    <a:pt x="1597" y="715"/>
                    <a:pt x="1629" y="675"/>
                    <a:pt x="1671" y="672"/>
                  </a:cubicBezTo>
                  <a:cubicBezTo>
                    <a:pt x="1759" y="666"/>
                    <a:pt x="1848" y="666"/>
                    <a:pt x="1936" y="663"/>
                  </a:cubicBezTo>
                  <a:cubicBezTo>
                    <a:pt x="1983" y="646"/>
                    <a:pt x="1999" y="614"/>
                    <a:pt x="2039" y="587"/>
                  </a:cubicBezTo>
                  <a:cubicBezTo>
                    <a:pt x="2083" y="521"/>
                    <a:pt x="2058" y="542"/>
                    <a:pt x="2106" y="512"/>
                  </a:cubicBezTo>
                  <a:cubicBezTo>
                    <a:pt x="2112" y="502"/>
                    <a:pt x="2115" y="490"/>
                    <a:pt x="2124" y="483"/>
                  </a:cubicBezTo>
                  <a:cubicBezTo>
                    <a:pt x="2132" y="477"/>
                    <a:pt x="2144" y="479"/>
                    <a:pt x="2153" y="474"/>
                  </a:cubicBezTo>
                  <a:cubicBezTo>
                    <a:pt x="2183" y="457"/>
                    <a:pt x="2214" y="441"/>
                    <a:pt x="2238" y="417"/>
                  </a:cubicBezTo>
                  <a:cubicBezTo>
                    <a:pt x="2266" y="389"/>
                    <a:pt x="2276" y="364"/>
                    <a:pt x="2313" y="351"/>
                  </a:cubicBezTo>
                  <a:cubicBezTo>
                    <a:pt x="2316" y="342"/>
                    <a:pt x="2316" y="330"/>
                    <a:pt x="2323" y="323"/>
                  </a:cubicBezTo>
                  <a:cubicBezTo>
                    <a:pt x="2339" y="307"/>
                    <a:pt x="2379" y="285"/>
                    <a:pt x="2379" y="285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651640" y="239220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包头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72560" y="354492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徐州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836960" y="2438280"/>
            <a:ext cx="3240360" cy="2232000"/>
            <a:chOff x="4836960" y="2438280"/>
            <a:chExt cx="3240360" cy="2232000"/>
          </a:xfrm>
        </p:grpSpPr>
        <p:sp>
          <p:nvSpPr>
            <p:cNvPr id="411" name=""/>
            <p:cNvSpPr/>
            <p:nvPr/>
          </p:nvSpPr>
          <p:spPr>
            <a:xfrm>
              <a:off x="6419880" y="3591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36960" y="351792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56240" y="24382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6240" y="31590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95880" y="45259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35880" y="430992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99520" y="40957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32600" y="416736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05720" y="2514600"/>
              <a:ext cx="215640" cy="21600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1" name="">
            <a:hlinkClick r:id="rId2" action="ppaction://hlinksldjump"/>
          </p:cNvPr>
          <p:cNvSpPr/>
          <p:nvPr/>
        </p:nvSpPr>
        <p:spPr>
          <a:xfrm>
            <a:off x="8893080" y="6669000"/>
            <a:ext cx="250920" cy="18900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28663" h="21600">
                <a:moveTo>
                  <a:pt x="0" y="0"/>
                </a:moveTo>
                <a:lnTo>
                  <a:pt x="28663" y="0"/>
                </a:lnTo>
                <a:lnTo>
                  <a:pt x="28663" y="21600"/>
                </a:lnTo>
                <a:lnTo>
                  <a:pt x="0" y="21600"/>
                </a:lnTo>
                <a:close/>
              </a:path>
              <a:path fill="lightenLess" w="28663" h="21600">
                <a:moveTo>
                  <a:pt x="0" y="0"/>
                </a:moveTo>
                <a:lnTo>
                  <a:pt x="28663" y="0"/>
                </a:lnTo>
                <a:lnTo>
                  <a:pt x="27263" y="1400"/>
                </a:lnTo>
                <a:lnTo>
                  <a:pt x="1400" y="1400"/>
                </a:lnTo>
                <a:close/>
              </a:path>
              <a:path fill="darken" w="28663" h="21600">
                <a:moveTo>
                  <a:pt x="28663" y="0"/>
                </a:moveTo>
                <a:lnTo>
                  <a:pt x="28663" y="21600"/>
                </a:lnTo>
                <a:lnTo>
                  <a:pt x="27263" y="20200"/>
                </a:lnTo>
                <a:lnTo>
                  <a:pt x="27263" y="1400"/>
                </a:lnTo>
                <a:close/>
              </a:path>
              <a:path fill="darkenLess" w="28663" h="21600">
                <a:moveTo>
                  <a:pt x="28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63" y="20200"/>
                </a:lnTo>
                <a:close/>
              </a:path>
              <a:path fill="lighten" w="28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63" h="21600">
                <a:moveTo>
                  <a:pt x="14332" y="3837"/>
                </a:moveTo>
                <a:lnTo>
                  <a:pt x="16908" y="6448"/>
                </a:lnTo>
                <a:lnTo>
                  <a:pt x="16908" y="4707"/>
                </a:lnTo>
                <a:lnTo>
                  <a:pt x="18683" y="4707"/>
                </a:lnTo>
                <a:lnTo>
                  <a:pt x="18683" y="8224"/>
                </a:lnTo>
                <a:lnTo>
                  <a:pt x="21295" y="10800"/>
                </a:lnTo>
                <a:lnTo>
                  <a:pt x="19641" y="10800"/>
                </a:lnTo>
                <a:lnTo>
                  <a:pt x="19641" y="17989"/>
                </a:lnTo>
                <a:lnTo>
                  <a:pt x="9022" y="17989"/>
                </a:lnTo>
                <a:lnTo>
                  <a:pt x="9022" y="10800"/>
                </a:lnTo>
                <a:lnTo>
                  <a:pt x="7369" y="10800"/>
                </a:lnTo>
                <a:close/>
              </a:path>
              <a:path fill="darkenLess" w="28663" h="21600">
                <a:moveTo>
                  <a:pt x="16908" y="6448"/>
                </a:moveTo>
                <a:lnTo>
                  <a:pt x="16908" y="4707"/>
                </a:lnTo>
                <a:lnTo>
                  <a:pt x="18683" y="4707"/>
                </a:lnTo>
                <a:lnTo>
                  <a:pt x="18683" y="8224"/>
                </a:lnTo>
                <a:close/>
              </a:path>
              <a:path fill="darkenLess" w="28663" h="21600">
                <a:moveTo>
                  <a:pt x="13409" y="14299"/>
                </a:moveTo>
                <a:lnTo>
                  <a:pt x="15254" y="14299"/>
                </a:lnTo>
                <a:lnTo>
                  <a:pt x="15254" y="17989"/>
                </a:lnTo>
                <a:lnTo>
                  <a:pt x="19641" y="17989"/>
                </a:lnTo>
                <a:lnTo>
                  <a:pt x="19641" y="10800"/>
                </a:lnTo>
                <a:lnTo>
                  <a:pt x="9022" y="10800"/>
                </a:lnTo>
                <a:lnTo>
                  <a:pt x="9022" y="17989"/>
                </a:lnTo>
                <a:lnTo>
                  <a:pt x="13409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grpSp>
        <p:nvGrpSpPr>
          <p:cNvPr id="423" name=""/>
          <p:cNvGrpSpPr/>
          <p:nvPr/>
        </p:nvGrpSpPr>
        <p:grpSpPr>
          <a:xfrm>
            <a:off x="6400800" y="1295280"/>
            <a:ext cx="1752480" cy="4496040"/>
            <a:chOff x="6400800" y="1295280"/>
            <a:chExt cx="1752480" cy="4496040"/>
          </a:xfrm>
        </p:grpSpPr>
        <p:sp>
          <p:nvSpPr>
            <p:cNvPr id="424" name=""/>
            <p:cNvSpPr/>
            <p:nvPr/>
          </p:nvSpPr>
          <p:spPr>
            <a:xfrm>
              <a:off x="6791400" y="2593800"/>
              <a:ext cx="1109520" cy="1589400"/>
            </a:xfrm>
            <a:custGeom>
              <a:avLst/>
              <a:gdLst/>
              <a:ahLst/>
              <a:rect l="l" t="t" r="r" b="b"/>
              <a:pathLst>
                <a:path w="699" h="1001">
                  <a:moveTo>
                    <a:pt x="0" y="0"/>
                  </a:moveTo>
                  <a:cubicBezTo>
                    <a:pt x="5" y="2"/>
                    <a:pt x="52" y="16"/>
                    <a:pt x="57" y="19"/>
                  </a:cubicBezTo>
                  <a:cubicBezTo>
                    <a:pt x="68" y="26"/>
                    <a:pt x="75" y="39"/>
                    <a:pt x="85" y="47"/>
                  </a:cubicBezTo>
                  <a:cubicBezTo>
                    <a:pt x="94" y="54"/>
                    <a:pt x="104" y="60"/>
                    <a:pt x="114" y="66"/>
                  </a:cubicBezTo>
                  <a:cubicBezTo>
                    <a:pt x="143" y="111"/>
                    <a:pt x="129" y="131"/>
                    <a:pt x="114" y="179"/>
                  </a:cubicBezTo>
                  <a:cubicBezTo>
                    <a:pt x="117" y="242"/>
                    <a:pt x="116" y="305"/>
                    <a:pt x="123" y="368"/>
                  </a:cubicBezTo>
                  <a:cubicBezTo>
                    <a:pt x="125" y="388"/>
                    <a:pt x="142" y="425"/>
                    <a:pt x="142" y="425"/>
                  </a:cubicBezTo>
                  <a:cubicBezTo>
                    <a:pt x="104" y="531"/>
                    <a:pt x="131" y="656"/>
                    <a:pt x="151" y="765"/>
                  </a:cubicBezTo>
                  <a:cubicBezTo>
                    <a:pt x="155" y="784"/>
                    <a:pt x="160" y="804"/>
                    <a:pt x="170" y="821"/>
                  </a:cubicBezTo>
                  <a:cubicBezTo>
                    <a:pt x="181" y="841"/>
                    <a:pt x="208" y="878"/>
                    <a:pt x="208" y="878"/>
                  </a:cubicBezTo>
                  <a:cubicBezTo>
                    <a:pt x="234" y="959"/>
                    <a:pt x="271" y="942"/>
                    <a:pt x="350" y="953"/>
                  </a:cubicBezTo>
                  <a:cubicBezTo>
                    <a:pt x="381" y="950"/>
                    <a:pt x="413" y="942"/>
                    <a:pt x="444" y="944"/>
                  </a:cubicBezTo>
                  <a:cubicBezTo>
                    <a:pt x="483" y="947"/>
                    <a:pt x="519" y="974"/>
                    <a:pt x="557" y="982"/>
                  </a:cubicBezTo>
                  <a:cubicBezTo>
                    <a:pt x="601" y="991"/>
                    <a:pt x="654" y="1001"/>
                    <a:pt x="699" y="100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2608200"/>
              <a:ext cx="360360" cy="3183120"/>
            </a:xfrm>
            <a:custGeom>
              <a:avLst/>
              <a:gdLst/>
              <a:ahLst/>
              <a:rect l="l" t="t" r="r" b="b"/>
              <a:pathLst>
                <a:path w="227" h="2005">
                  <a:moveTo>
                    <a:pt x="227" y="0"/>
                  </a:moveTo>
                  <a:cubicBezTo>
                    <a:pt x="200" y="28"/>
                    <a:pt x="189" y="54"/>
                    <a:pt x="152" y="66"/>
                  </a:cubicBezTo>
                  <a:cubicBezTo>
                    <a:pt x="146" y="76"/>
                    <a:pt x="142" y="88"/>
                    <a:pt x="133" y="95"/>
                  </a:cubicBezTo>
                  <a:cubicBezTo>
                    <a:pt x="125" y="101"/>
                    <a:pt x="112" y="97"/>
                    <a:pt x="105" y="104"/>
                  </a:cubicBezTo>
                  <a:cubicBezTo>
                    <a:pt x="102" y="106"/>
                    <a:pt x="87" y="158"/>
                    <a:pt x="86" y="161"/>
                  </a:cubicBezTo>
                  <a:cubicBezTo>
                    <a:pt x="101" y="208"/>
                    <a:pt x="98" y="179"/>
                    <a:pt x="76" y="246"/>
                  </a:cubicBezTo>
                  <a:cubicBezTo>
                    <a:pt x="73" y="255"/>
                    <a:pt x="67" y="274"/>
                    <a:pt x="67" y="274"/>
                  </a:cubicBezTo>
                  <a:cubicBezTo>
                    <a:pt x="58" y="385"/>
                    <a:pt x="54" y="528"/>
                    <a:pt x="20" y="633"/>
                  </a:cubicBezTo>
                  <a:cubicBezTo>
                    <a:pt x="26" y="711"/>
                    <a:pt x="24" y="768"/>
                    <a:pt x="67" y="831"/>
                  </a:cubicBezTo>
                  <a:cubicBezTo>
                    <a:pt x="78" y="876"/>
                    <a:pt x="82" y="892"/>
                    <a:pt x="114" y="926"/>
                  </a:cubicBezTo>
                  <a:cubicBezTo>
                    <a:pt x="125" y="958"/>
                    <a:pt x="133" y="983"/>
                    <a:pt x="152" y="1011"/>
                  </a:cubicBezTo>
                  <a:cubicBezTo>
                    <a:pt x="163" y="1045"/>
                    <a:pt x="169" y="1080"/>
                    <a:pt x="180" y="1114"/>
                  </a:cubicBezTo>
                  <a:cubicBezTo>
                    <a:pt x="177" y="1130"/>
                    <a:pt x="178" y="1147"/>
                    <a:pt x="171" y="1162"/>
                  </a:cubicBezTo>
                  <a:cubicBezTo>
                    <a:pt x="165" y="1174"/>
                    <a:pt x="151" y="1180"/>
                    <a:pt x="142" y="1190"/>
                  </a:cubicBezTo>
                  <a:cubicBezTo>
                    <a:pt x="135" y="1198"/>
                    <a:pt x="128" y="1208"/>
                    <a:pt x="124" y="1218"/>
                  </a:cubicBezTo>
                  <a:cubicBezTo>
                    <a:pt x="116" y="1236"/>
                    <a:pt x="111" y="1256"/>
                    <a:pt x="105" y="1275"/>
                  </a:cubicBezTo>
                  <a:cubicBezTo>
                    <a:pt x="94" y="1309"/>
                    <a:pt x="55" y="1328"/>
                    <a:pt x="39" y="1360"/>
                  </a:cubicBezTo>
                  <a:cubicBezTo>
                    <a:pt x="26" y="1386"/>
                    <a:pt x="20" y="1418"/>
                    <a:pt x="10" y="1445"/>
                  </a:cubicBezTo>
                  <a:cubicBezTo>
                    <a:pt x="16" y="1559"/>
                    <a:pt x="0" y="1639"/>
                    <a:pt x="57" y="1728"/>
                  </a:cubicBezTo>
                  <a:cubicBezTo>
                    <a:pt x="76" y="1801"/>
                    <a:pt x="101" y="1873"/>
                    <a:pt x="124" y="1945"/>
                  </a:cubicBezTo>
                  <a:cubicBezTo>
                    <a:pt x="143" y="2005"/>
                    <a:pt x="162" y="2002"/>
                    <a:pt x="133" y="200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70760" y="1295280"/>
              <a:ext cx="1082520" cy="1455840"/>
            </a:xfrm>
            <a:custGeom>
              <a:avLst/>
              <a:gdLst/>
              <a:ahLst/>
              <a:rect l="l" t="t" r="r" b="b"/>
              <a:pathLst>
                <a:path w="682" h="917">
                  <a:moveTo>
                    <a:pt x="0" y="917"/>
                  </a:moveTo>
                  <a:cubicBezTo>
                    <a:pt x="24" y="901"/>
                    <a:pt x="55" y="894"/>
                    <a:pt x="71" y="870"/>
                  </a:cubicBezTo>
                  <a:cubicBezTo>
                    <a:pt x="126" y="787"/>
                    <a:pt x="94" y="815"/>
                    <a:pt x="153" y="776"/>
                  </a:cubicBezTo>
                  <a:cubicBezTo>
                    <a:pt x="183" y="686"/>
                    <a:pt x="140" y="792"/>
                    <a:pt x="200" y="717"/>
                  </a:cubicBezTo>
                  <a:cubicBezTo>
                    <a:pt x="208" y="707"/>
                    <a:pt x="203" y="691"/>
                    <a:pt x="212" y="682"/>
                  </a:cubicBezTo>
                  <a:cubicBezTo>
                    <a:pt x="289" y="606"/>
                    <a:pt x="258" y="654"/>
                    <a:pt x="318" y="623"/>
                  </a:cubicBezTo>
                  <a:cubicBezTo>
                    <a:pt x="331" y="617"/>
                    <a:pt x="340" y="605"/>
                    <a:pt x="353" y="599"/>
                  </a:cubicBezTo>
                  <a:cubicBezTo>
                    <a:pt x="376" y="589"/>
                    <a:pt x="424" y="576"/>
                    <a:pt x="424" y="576"/>
                  </a:cubicBezTo>
                  <a:cubicBezTo>
                    <a:pt x="436" y="568"/>
                    <a:pt x="452" y="564"/>
                    <a:pt x="459" y="552"/>
                  </a:cubicBezTo>
                  <a:cubicBezTo>
                    <a:pt x="472" y="531"/>
                    <a:pt x="468" y="502"/>
                    <a:pt x="482" y="482"/>
                  </a:cubicBezTo>
                  <a:cubicBezTo>
                    <a:pt x="490" y="470"/>
                    <a:pt x="498" y="459"/>
                    <a:pt x="506" y="447"/>
                  </a:cubicBezTo>
                  <a:cubicBezTo>
                    <a:pt x="539" y="347"/>
                    <a:pt x="488" y="509"/>
                    <a:pt x="529" y="317"/>
                  </a:cubicBezTo>
                  <a:cubicBezTo>
                    <a:pt x="553" y="203"/>
                    <a:pt x="599" y="83"/>
                    <a:pt x="682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324480" y="1143000"/>
            <a:ext cx="1949400" cy="4753080"/>
            <a:chOff x="6324480" y="1143000"/>
            <a:chExt cx="1949400" cy="4753080"/>
          </a:xfrm>
        </p:grpSpPr>
        <p:sp>
          <p:nvSpPr>
            <p:cNvPr id="428" name=""/>
            <p:cNvSpPr/>
            <p:nvPr/>
          </p:nvSpPr>
          <p:spPr>
            <a:xfrm>
              <a:off x="8129520" y="1143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72480" y="27273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40480" y="575136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684840" y="2438280"/>
              <a:ext cx="216000" cy="21600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24480" y="481500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7200" y="40957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96120" y="3591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72480" y="31590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48720" y="41148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00840" y="3591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11760" y="431172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69200" y="287028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39160" y="25146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72320" y="21337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00920" y="16002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13440" y="3837"/>
                </a:moveTo>
                <a:lnTo>
                  <a:pt x="16017" y="6448"/>
                </a:ln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lnTo>
                  <a:pt x="20403" y="10800"/>
                </a:lnTo>
                <a:lnTo>
                  <a:pt x="18750" y="10800"/>
                </a:lnTo>
                <a:lnTo>
                  <a:pt x="18750" y="17989"/>
                </a:lnTo>
                <a:lnTo>
                  <a:pt x="8131" y="17989"/>
                </a:lnTo>
                <a:lnTo>
                  <a:pt x="8131" y="10800"/>
                </a:lnTo>
                <a:lnTo>
                  <a:pt x="6477" y="10800"/>
                </a:lnTo>
                <a:close/>
              </a:path>
              <a:path fill="darkenLess" w="26881" h="21600">
                <a:moveTo>
                  <a:pt x="16017" y="6448"/>
                </a:move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close/>
              </a:path>
              <a:path fill="darkenLess" w="26881" h="21600">
                <a:moveTo>
                  <a:pt x="12518" y="14299"/>
                </a:moveTo>
                <a:lnTo>
                  <a:pt x="14363" y="14299"/>
                </a:lnTo>
                <a:lnTo>
                  <a:pt x="14363" y="17989"/>
                </a:lnTo>
                <a:lnTo>
                  <a:pt x="18750" y="17989"/>
                </a:lnTo>
                <a:lnTo>
                  <a:pt x="18750" y="10800"/>
                </a:lnTo>
                <a:lnTo>
                  <a:pt x="8131" y="10800"/>
                </a:lnTo>
                <a:lnTo>
                  <a:pt x="8131" y="17989"/>
                </a:lnTo>
                <a:lnTo>
                  <a:pt x="12518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6346800" y="2146320"/>
            <a:ext cx="1692360" cy="3917880"/>
            <a:chOff x="6346800" y="2146320"/>
            <a:chExt cx="1692360" cy="3917880"/>
          </a:xfrm>
        </p:grpSpPr>
        <p:sp>
          <p:nvSpPr>
            <p:cNvPr id="448" name=""/>
            <p:cNvSpPr/>
            <p:nvPr/>
          </p:nvSpPr>
          <p:spPr>
            <a:xfrm>
              <a:off x="7427880" y="2146320"/>
              <a:ext cx="608040" cy="614520"/>
            </a:xfrm>
            <a:custGeom>
              <a:avLst/>
              <a:gdLst/>
              <a:ahLst/>
              <a:rect l="l" t="t" r="r" b="b"/>
              <a:pathLst>
                <a:path w="383" h="387">
                  <a:moveTo>
                    <a:pt x="0" y="200"/>
                  </a:moveTo>
                  <a:cubicBezTo>
                    <a:pt x="11" y="155"/>
                    <a:pt x="17" y="79"/>
                    <a:pt x="58" y="47"/>
                  </a:cubicBezTo>
                  <a:cubicBezTo>
                    <a:pt x="68" y="39"/>
                    <a:pt x="148" y="5"/>
                    <a:pt x="164" y="0"/>
                  </a:cubicBezTo>
                  <a:cubicBezTo>
                    <a:pt x="230" y="11"/>
                    <a:pt x="285" y="21"/>
                    <a:pt x="340" y="59"/>
                  </a:cubicBezTo>
                  <a:cubicBezTo>
                    <a:pt x="357" y="108"/>
                    <a:pt x="383" y="147"/>
                    <a:pt x="352" y="200"/>
                  </a:cubicBezTo>
                  <a:cubicBezTo>
                    <a:pt x="346" y="211"/>
                    <a:pt x="329" y="207"/>
                    <a:pt x="317" y="211"/>
                  </a:cubicBezTo>
                  <a:cubicBezTo>
                    <a:pt x="293" y="227"/>
                    <a:pt x="270" y="242"/>
                    <a:pt x="246" y="258"/>
                  </a:cubicBezTo>
                  <a:cubicBezTo>
                    <a:pt x="234" y="266"/>
                    <a:pt x="233" y="284"/>
                    <a:pt x="223" y="294"/>
                  </a:cubicBezTo>
                  <a:cubicBezTo>
                    <a:pt x="213" y="304"/>
                    <a:pt x="200" y="309"/>
                    <a:pt x="188" y="317"/>
                  </a:cubicBezTo>
                  <a:cubicBezTo>
                    <a:pt x="169" y="372"/>
                    <a:pt x="162" y="383"/>
                    <a:pt x="105" y="364"/>
                  </a:cubicBezTo>
                  <a:cubicBezTo>
                    <a:pt x="137" y="271"/>
                    <a:pt x="105" y="387"/>
                    <a:pt x="105" y="294"/>
                  </a:cubicBezTo>
                  <a:cubicBezTo>
                    <a:pt x="105" y="256"/>
                    <a:pt x="122" y="240"/>
                    <a:pt x="141" y="211"/>
                  </a:cubicBezTo>
                  <a:cubicBezTo>
                    <a:pt x="137" y="192"/>
                    <a:pt x="146" y="163"/>
                    <a:pt x="129" y="153"/>
                  </a:cubicBezTo>
                  <a:cubicBezTo>
                    <a:pt x="94" y="133"/>
                    <a:pt x="24" y="175"/>
                    <a:pt x="0" y="200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59640" y="2430360"/>
              <a:ext cx="525240" cy="466920"/>
            </a:xfrm>
            <a:custGeom>
              <a:avLst/>
              <a:gdLst/>
              <a:ahLst/>
              <a:rect l="l" t="t" r="r" b="b"/>
              <a:pathLst>
                <a:path w="331" h="294">
                  <a:moveTo>
                    <a:pt x="331" y="162"/>
                  </a:moveTo>
                  <a:cubicBezTo>
                    <a:pt x="276" y="79"/>
                    <a:pt x="308" y="106"/>
                    <a:pt x="248" y="68"/>
                  </a:cubicBezTo>
                  <a:cubicBezTo>
                    <a:pt x="204" y="0"/>
                    <a:pt x="169" y="20"/>
                    <a:pt x="96" y="32"/>
                  </a:cubicBezTo>
                  <a:cubicBezTo>
                    <a:pt x="84" y="36"/>
                    <a:pt x="69" y="35"/>
                    <a:pt x="60" y="44"/>
                  </a:cubicBezTo>
                  <a:cubicBezTo>
                    <a:pt x="51" y="53"/>
                    <a:pt x="54" y="68"/>
                    <a:pt x="49" y="79"/>
                  </a:cubicBezTo>
                  <a:cubicBezTo>
                    <a:pt x="0" y="179"/>
                    <a:pt x="45" y="56"/>
                    <a:pt x="13" y="150"/>
                  </a:cubicBezTo>
                  <a:cubicBezTo>
                    <a:pt x="21" y="174"/>
                    <a:pt x="29" y="197"/>
                    <a:pt x="37" y="221"/>
                  </a:cubicBezTo>
                  <a:cubicBezTo>
                    <a:pt x="50" y="260"/>
                    <a:pt x="144" y="279"/>
                    <a:pt x="178" y="291"/>
                  </a:cubicBezTo>
                  <a:cubicBezTo>
                    <a:pt x="249" y="273"/>
                    <a:pt x="220" y="294"/>
                    <a:pt x="248" y="209"/>
                  </a:cubicBezTo>
                  <a:cubicBezTo>
                    <a:pt x="256" y="184"/>
                    <a:pt x="313" y="179"/>
                    <a:pt x="331" y="162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91520" y="3929040"/>
              <a:ext cx="647640" cy="493560"/>
            </a:xfrm>
            <a:custGeom>
              <a:avLst/>
              <a:gdLst/>
              <a:ahLst/>
              <a:rect l="l" t="t" r="r" b="b"/>
              <a:pathLst>
                <a:path w="408" h="311">
                  <a:moveTo>
                    <a:pt x="305" y="52"/>
                  </a:moveTo>
                  <a:cubicBezTo>
                    <a:pt x="213" y="38"/>
                    <a:pt x="93" y="0"/>
                    <a:pt x="34" y="88"/>
                  </a:cubicBezTo>
                  <a:cubicBezTo>
                    <a:pt x="0" y="195"/>
                    <a:pt x="100" y="169"/>
                    <a:pt x="175" y="193"/>
                  </a:cubicBezTo>
                  <a:cubicBezTo>
                    <a:pt x="179" y="205"/>
                    <a:pt x="184" y="217"/>
                    <a:pt x="187" y="229"/>
                  </a:cubicBezTo>
                  <a:cubicBezTo>
                    <a:pt x="192" y="248"/>
                    <a:pt x="185" y="273"/>
                    <a:pt x="199" y="287"/>
                  </a:cubicBezTo>
                  <a:cubicBezTo>
                    <a:pt x="216" y="304"/>
                    <a:pt x="269" y="311"/>
                    <a:pt x="269" y="311"/>
                  </a:cubicBezTo>
                  <a:cubicBezTo>
                    <a:pt x="281" y="307"/>
                    <a:pt x="296" y="308"/>
                    <a:pt x="305" y="299"/>
                  </a:cubicBezTo>
                  <a:cubicBezTo>
                    <a:pt x="401" y="204"/>
                    <a:pt x="307" y="244"/>
                    <a:pt x="387" y="217"/>
                  </a:cubicBezTo>
                  <a:cubicBezTo>
                    <a:pt x="405" y="164"/>
                    <a:pt x="408" y="153"/>
                    <a:pt x="352" y="135"/>
                  </a:cubicBezTo>
                  <a:cubicBezTo>
                    <a:pt x="344" y="123"/>
                    <a:pt x="325" y="113"/>
                    <a:pt x="328" y="99"/>
                  </a:cubicBezTo>
                  <a:cubicBezTo>
                    <a:pt x="331" y="85"/>
                    <a:pt x="363" y="90"/>
                    <a:pt x="363" y="76"/>
                  </a:cubicBezTo>
                  <a:cubicBezTo>
                    <a:pt x="363" y="48"/>
                    <a:pt x="320" y="52"/>
                    <a:pt x="305" y="52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46800" y="5729400"/>
              <a:ext cx="457200" cy="334800"/>
            </a:xfrm>
            <a:custGeom>
              <a:avLst/>
              <a:gdLst/>
              <a:ahLst/>
              <a:rect l="l" t="t" r="r" b="b"/>
              <a:pathLst>
                <a:path w="288" h="211">
                  <a:moveTo>
                    <a:pt x="281" y="153"/>
                  </a:moveTo>
                  <a:cubicBezTo>
                    <a:pt x="275" y="121"/>
                    <a:pt x="280" y="82"/>
                    <a:pt x="257" y="59"/>
                  </a:cubicBezTo>
                  <a:cubicBezTo>
                    <a:pt x="217" y="19"/>
                    <a:pt x="196" y="15"/>
                    <a:pt x="152" y="0"/>
                  </a:cubicBezTo>
                  <a:cubicBezTo>
                    <a:pt x="62" y="15"/>
                    <a:pt x="41" y="4"/>
                    <a:pt x="10" y="94"/>
                  </a:cubicBezTo>
                  <a:cubicBezTo>
                    <a:pt x="29" y="189"/>
                    <a:pt x="0" y="132"/>
                    <a:pt x="58" y="164"/>
                  </a:cubicBezTo>
                  <a:cubicBezTo>
                    <a:pt x="83" y="177"/>
                    <a:pt x="128" y="211"/>
                    <a:pt x="128" y="211"/>
                  </a:cubicBezTo>
                  <a:cubicBezTo>
                    <a:pt x="152" y="203"/>
                    <a:pt x="174" y="192"/>
                    <a:pt x="199" y="188"/>
                  </a:cubicBezTo>
                  <a:cubicBezTo>
                    <a:pt x="226" y="184"/>
                    <a:pt x="256" y="187"/>
                    <a:pt x="281" y="176"/>
                  </a:cubicBezTo>
                  <a:cubicBezTo>
                    <a:pt x="288" y="173"/>
                    <a:pt x="281" y="161"/>
                    <a:pt x="281" y="153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6553080" y="2141640"/>
            <a:ext cx="1523880" cy="3878280"/>
            <a:chOff x="6553080" y="2141640"/>
            <a:chExt cx="1523880" cy="3878280"/>
          </a:xfrm>
        </p:grpSpPr>
        <p:sp>
          <p:nvSpPr>
            <p:cNvPr id="453" name=""/>
            <p:cNvSpPr/>
            <p:nvPr/>
          </p:nvSpPr>
          <p:spPr>
            <a:xfrm>
              <a:off x="7725600" y="2141640"/>
              <a:ext cx="17064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54600" y="2606760"/>
              <a:ext cx="17064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15960" y="2217600"/>
              <a:ext cx="17064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35240" y="2217600"/>
              <a:ext cx="17100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54880" y="4046400"/>
              <a:ext cx="17064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25600" y="4046400"/>
              <a:ext cx="17064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905960" y="4122720"/>
              <a:ext cx="17100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13800" y="2751120"/>
              <a:ext cx="17064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04160" y="2598840"/>
              <a:ext cx="17064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33440" y="2598840"/>
              <a:ext cx="17064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53080" y="5875200"/>
              <a:ext cx="17100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35240" y="4351320"/>
              <a:ext cx="17100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181480" y="1523880"/>
            <a:ext cx="3733920" cy="3886200"/>
            <a:chOff x="5181480" y="1523880"/>
            <a:chExt cx="3733920" cy="3886200"/>
          </a:xfrm>
        </p:grpSpPr>
        <p:sp>
          <p:nvSpPr>
            <p:cNvPr id="466" name=""/>
            <p:cNvSpPr/>
            <p:nvPr/>
          </p:nvSpPr>
          <p:spPr>
            <a:xfrm>
              <a:off x="7620120" y="1523880"/>
              <a:ext cx="1295280" cy="457200"/>
            </a:xfrm>
            <a:prstGeom prst="wedgeRoundRectCallout">
              <a:avLst>
                <a:gd name="adj1" fmla="val -41546"/>
                <a:gd name="adj2" fmla="val 85069"/>
                <a:gd name="adj3" fmla="val 16667"/>
              </a:avLst>
            </a:prstGeom>
            <a:noFill/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辽中南</a:t>
              </a:r>
              <a:r>
                <a:rPr b="0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hlinkClick r:id="rId2" action="ppaction://hlinksldjump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20120" y="2743200"/>
              <a:ext cx="1295280" cy="457200"/>
            </a:xfrm>
            <a:prstGeom prst="wedgeRoundRectCallout">
              <a:avLst>
                <a:gd name="adj1" fmla="val -83333"/>
                <a:gd name="adj2" fmla="val -39583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京津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181480" y="3733920"/>
              <a:ext cx="2057400" cy="457200"/>
            </a:xfrm>
            <a:prstGeom prst="wedgeRoundRectCallout">
              <a:avLst>
                <a:gd name="adj1" fmla="val 60569"/>
                <a:gd name="adj2" fmla="val 27777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长江三角洲</a:t>
              </a:r>
              <a:r>
                <a:rPr b="0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hlinkClick r:id="rId3" action="ppaction://hlinksldjump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34120" y="4952880"/>
              <a:ext cx="1904760" cy="457200"/>
            </a:xfrm>
            <a:prstGeom prst="wedgeRoundRectCallout">
              <a:avLst>
                <a:gd name="adj1" fmla="val 17583"/>
                <a:gd name="adj2" fmla="val 112152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珠江三角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7493"/>
                </a:moveTo>
                <a:lnTo>
                  <a:pt x="18076" y="7493"/>
                </a:lnTo>
                <a:lnTo>
                  <a:pt x="18076" y="12828"/>
                </a:lnTo>
                <a:cubicBezTo>
                  <a:pt x="18076" y="13751"/>
                  <a:pt x="18876" y="14482"/>
                  <a:pt x="19912" y="14482"/>
                </a:cubicBezTo>
                <a:lnTo>
                  <a:pt x="21575" y="14482"/>
                </a:lnTo>
                <a:cubicBezTo>
                  <a:pt x="22610" y="14482"/>
                  <a:pt x="23411" y="13751"/>
                  <a:pt x="23411" y="12828"/>
                </a:cubicBezTo>
                <a:lnTo>
                  <a:pt x="23411" y="7493"/>
                </a:lnTo>
                <a:lnTo>
                  <a:pt x="21575" y="7493"/>
                </a:lnTo>
                <a:lnTo>
                  <a:pt x="25082" y="3985"/>
                </a:lnTo>
                <a:lnTo>
                  <a:pt x="28755" y="7493"/>
                </a:lnTo>
                <a:lnTo>
                  <a:pt x="26919" y="7493"/>
                </a:lnTo>
                <a:lnTo>
                  <a:pt x="26919" y="12828"/>
                </a:lnTo>
                <a:cubicBezTo>
                  <a:pt x="26919" y="15596"/>
                  <a:pt x="24342" y="18155"/>
                  <a:pt x="21575" y="18155"/>
                </a:cubicBezTo>
                <a:lnTo>
                  <a:pt x="19912" y="18155"/>
                </a:lnTo>
                <a:cubicBezTo>
                  <a:pt x="17144" y="18155"/>
                  <a:pt x="14568" y="15596"/>
                  <a:pt x="14568" y="12828"/>
                </a:cubicBezTo>
                <a:close/>
              </a:path>
            </a:pathLst>
          </a:custGeom>
          <a:noFill/>
          <a:ln w="93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  工业的分布与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19280" y="1700280"/>
            <a:ext cx="69818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工业与我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400536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二、工业的空间分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11280" y="2276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业的生产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81120" y="321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业是国民经济的主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37880" y="472428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业分布大势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6560" y="47242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沿江、沿交通线、沿海分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2120" y="589752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工业基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81960" y="530064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合理工业布局考虑的因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3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13440" y="3837"/>
                </a:moveTo>
                <a:lnTo>
                  <a:pt x="16017" y="6448"/>
                </a:ln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lnTo>
                  <a:pt x="20403" y="10800"/>
                </a:lnTo>
                <a:lnTo>
                  <a:pt x="18750" y="10800"/>
                </a:lnTo>
                <a:lnTo>
                  <a:pt x="18750" y="17989"/>
                </a:lnTo>
                <a:lnTo>
                  <a:pt x="8131" y="17989"/>
                </a:lnTo>
                <a:lnTo>
                  <a:pt x="8131" y="10800"/>
                </a:lnTo>
                <a:lnTo>
                  <a:pt x="6477" y="10800"/>
                </a:lnTo>
                <a:close/>
              </a:path>
              <a:path fill="darkenLess" w="26881" h="21600">
                <a:moveTo>
                  <a:pt x="16017" y="6448"/>
                </a:move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close/>
              </a:path>
              <a:path fill="darkenLess" w="26881" h="21600">
                <a:moveTo>
                  <a:pt x="12518" y="14299"/>
                </a:moveTo>
                <a:lnTo>
                  <a:pt x="14363" y="14299"/>
                </a:lnTo>
                <a:lnTo>
                  <a:pt x="14363" y="17989"/>
                </a:lnTo>
                <a:lnTo>
                  <a:pt x="18750" y="17989"/>
                </a:lnTo>
                <a:lnTo>
                  <a:pt x="18750" y="10800"/>
                </a:lnTo>
                <a:lnTo>
                  <a:pt x="8131" y="10800"/>
                </a:lnTo>
                <a:lnTo>
                  <a:pt x="8131" y="17989"/>
                </a:lnTo>
                <a:lnTo>
                  <a:pt x="12518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6858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交通条件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方便的交通可以为原料、燃料、产品的输送提供便利。所以很多工业分布在交通便利的地方，我国工业沿江、沿海、沿交通线分布的大势也说明了这一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65760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市场条件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当市场需求量足够大时，有的工业也会布局在市场所在地周围，利用各种交通方式来完成原料和燃料的输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2438280"/>
            <a:ext cx="8686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资源条件：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</a:rPr>
              <a:t>所有的工业布局几乎都有所反映，很多工业中心都选择就近资源配置较好的地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5181480"/>
            <a:ext cx="85694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它条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有时在工业布局时还考虑到其它各方面       的条件。比如历史基础、技术力量、资金、国防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、生产的经济效益等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rId1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10800" y="4149"/>
                </a:moveTo>
                <a:lnTo>
                  <a:pt x="13376" y="6760"/>
                </a:ln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lnTo>
                  <a:pt x="17763" y="11112"/>
                </a:lnTo>
                <a:lnTo>
                  <a:pt x="16109" y="11112"/>
                </a:lnTo>
                <a:lnTo>
                  <a:pt x="16109" y="18301"/>
                </a:lnTo>
                <a:lnTo>
                  <a:pt x="5491" y="18301"/>
                </a:lnTo>
                <a:lnTo>
                  <a:pt x="5491" y="11112"/>
                </a:lnTo>
                <a:lnTo>
                  <a:pt x="3837" y="11112"/>
                </a:lnTo>
                <a:close/>
              </a:path>
              <a:path fill="darkenLess" w="21600" h="22223">
                <a:moveTo>
                  <a:pt x="13376" y="6760"/>
                </a:move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close/>
              </a:path>
              <a:path fill="darkenLess" w="21600" h="22223">
                <a:moveTo>
                  <a:pt x="9877" y="14611"/>
                </a:moveTo>
                <a:lnTo>
                  <a:pt x="11723" y="14611"/>
                </a:lnTo>
                <a:lnTo>
                  <a:pt x="11723" y="18301"/>
                </a:lnTo>
                <a:lnTo>
                  <a:pt x="16109" y="18301"/>
                </a:lnTo>
                <a:lnTo>
                  <a:pt x="16109" y="11112"/>
                </a:lnTo>
                <a:lnTo>
                  <a:pt x="5491" y="11112"/>
                </a:lnTo>
                <a:lnTo>
                  <a:pt x="5491" y="18301"/>
                </a:lnTo>
                <a:lnTo>
                  <a:pt x="9877" y="1830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-684360" y="-316080"/>
            <a:ext cx="7618680" cy="7174080"/>
          </a:xfrm>
          <a:prstGeom prst="rect">
            <a:avLst/>
          </a:prstGeom>
          <a:ln w="0">
            <a:noFill/>
          </a:ln>
        </p:spPr>
      </p:pic>
      <p:grpSp>
        <p:nvGrpSpPr>
          <p:cNvPr id="477" name=""/>
          <p:cNvGrpSpPr/>
          <p:nvPr/>
        </p:nvGrpSpPr>
        <p:grpSpPr>
          <a:xfrm>
            <a:off x="1371600" y="1219320"/>
            <a:ext cx="3581280" cy="2895480"/>
            <a:chOff x="1371600" y="1219320"/>
            <a:chExt cx="3581280" cy="2895480"/>
          </a:xfrm>
        </p:grpSpPr>
        <p:sp>
          <p:nvSpPr>
            <p:cNvPr id="478" name=""/>
            <p:cNvSpPr/>
            <p:nvPr/>
          </p:nvSpPr>
          <p:spPr>
            <a:xfrm>
              <a:off x="2590920" y="1979640"/>
              <a:ext cx="228600" cy="311040"/>
            </a:xfrm>
            <a:custGeom>
              <a:avLst/>
              <a:gdLst/>
              <a:ahLst/>
              <a:rect l="l" t="t" r="r" b="b"/>
              <a:pathLst>
                <a:path w="480" h="624">
                  <a:moveTo>
                    <a:pt x="144" y="0"/>
                  </a:moveTo>
                  <a:lnTo>
                    <a:pt x="0" y="624"/>
                  </a:lnTo>
                  <a:lnTo>
                    <a:pt x="480" y="624"/>
                  </a:lnTo>
                  <a:lnTo>
                    <a:pt x="288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52680" y="2435400"/>
              <a:ext cx="381240" cy="312480"/>
            </a:xfrm>
            <a:prstGeom prst="flowChartExtra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71600" y="3803760"/>
              <a:ext cx="228600" cy="311040"/>
            </a:xfrm>
            <a:custGeom>
              <a:avLst/>
              <a:gdLst/>
              <a:ahLst/>
              <a:rect l="l" t="t" r="r" b="b"/>
              <a:pathLst>
                <a:path w="480" h="624">
                  <a:moveTo>
                    <a:pt x="144" y="0"/>
                  </a:moveTo>
                  <a:lnTo>
                    <a:pt x="0" y="624"/>
                  </a:lnTo>
                  <a:lnTo>
                    <a:pt x="480" y="624"/>
                  </a:lnTo>
                  <a:lnTo>
                    <a:pt x="288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24280" y="1219320"/>
              <a:ext cx="228600" cy="234720"/>
            </a:xfrm>
            <a:prstGeom prst="flowChartProcess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2131920"/>
              <a:ext cx="381240" cy="303480"/>
            </a:xfrm>
            <a:prstGeom prst="flowChartExtra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6705720" y="304920"/>
            <a:ext cx="24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辽中南地区有哪些主要资源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588000" y="1700280"/>
            <a:ext cx="285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辽中南地区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哪些主要的工 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?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32720" y="306864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联系资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工业的分布状况，分析该区发展成为主要工业区的优越条件是什么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556000" y="5084640"/>
            <a:ext cx="1980360" cy="838080"/>
            <a:chOff x="2556000" y="5084640"/>
            <a:chExt cx="1980360" cy="838080"/>
          </a:xfrm>
        </p:grpSpPr>
        <p:grpSp>
          <p:nvGrpSpPr>
            <p:cNvPr id="487" name=""/>
            <p:cNvGrpSpPr/>
            <p:nvPr/>
          </p:nvGrpSpPr>
          <p:grpSpPr>
            <a:xfrm>
              <a:off x="3012840" y="5084640"/>
              <a:ext cx="1523520" cy="609480"/>
              <a:chOff x="3012840" y="5084640"/>
              <a:chExt cx="1523520" cy="609480"/>
            </a:xfrm>
          </p:grpSpPr>
          <p:sp>
            <p:nvSpPr>
              <p:cNvPr id="488" name=""/>
              <p:cNvSpPr/>
              <p:nvPr/>
            </p:nvSpPr>
            <p:spPr>
              <a:xfrm>
                <a:off x="3012840" y="5084640"/>
                <a:ext cx="1523520" cy="609480"/>
              </a:xfrm>
              <a:prstGeom prst="wedgeRoundRectCallout">
                <a:avLst>
                  <a:gd name="adj1" fmla="val -70314"/>
                  <a:gd name="adj2" fmla="val 70050"/>
                  <a:gd name="adj3" fmla="val 16667"/>
                </a:avLst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220200" y="5160960"/>
                <a:ext cx="122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   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造船工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2556000" y="5694120"/>
              <a:ext cx="228240" cy="228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643280" y="189000"/>
            <a:ext cx="1447560" cy="1218600"/>
            <a:chOff x="4643280" y="189000"/>
            <a:chExt cx="1447560" cy="1218600"/>
          </a:xfrm>
        </p:grpSpPr>
        <p:sp>
          <p:nvSpPr>
            <p:cNvPr id="492" name=""/>
            <p:cNvSpPr/>
            <p:nvPr/>
          </p:nvSpPr>
          <p:spPr>
            <a:xfrm>
              <a:off x="4643280" y="1179360"/>
              <a:ext cx="239760" cy="228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4719240" y="189000"/>
              <a:ext cx="1371600" cy="685440"/>
              <a:chOff x="4719240" y="189000"/>
              <a:chExt cx="1371600" cy="685440"/>
            </a:xfrm>
          </p:grpSpPr>
          <p:sp>
            <p:nvSpPr>
              <p:cNvPr id="494" name=""/>
              <p:cNvSpPr/>
              <p:nvPr/>
            </p:nvSpPr>
            <p:spPr>
              <a:xfrm>
                <a:off x="4719240" y="189000"/>
                <a:ext cx="1371600" cy="685440"/>
              </a:xfrm>
              <a:prstGeom prst="wedgeRoundRectCallout">
                <a:avLst>
                  <a:gd name="adj1" fmla="val -40740"/>
                  <a:gd name="adj2" fmla="val 91898"/>
                  <a:gd name="adj3" fmla="val 16667"/>
                </a:avLst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892040" y="34128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煤炭工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6" name=""/>
          <p:cNvGrpSpPr/>
          <p:nvPr/>
        </p:nvGrpSpPr>
        <p:grpSpPr>
          <a:xfrm>
            <a:off x="2671560" y="189000"/>
            <a:ext cx="1818000" cy="1218600"/>
            <a:chOff x="2671560" y="189000"/>
            <a:chExt cx="1818000" cy="1218600"/>
          </a:xfrm>
        </p:grpSpPr>
        <p:sp>
          <p:nvSpPr>
            <p:cNvPr id="497" name=""/>
            <p:cNvSpPr/>
            <p:nvPr/>
          </p:nvSpPr>
          <p:spPr>
            <a:xfrm>
              <a:off x="4249800" y="1179360"/>
              <a:ext cx="239760" cy="228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2671560" y="189000"/>
              <a:ext cx="1584360" cy="685080"/>
              <a:chOff x="2671560" y="189000"/>
              <a:chExt cx="1584360" cy="685080"/>
            </a:xfrm>
          </p:grpSpPr>
          <p:sp>
            <p:nvSpPr>
              <p:cNvPr id="499" name=""/>
              <p:cNvSpPr/>
              <p:nvPr/>
            </p:nvSpPr>
            <p:spPr>
              <a:xfrm flipH="1">
                <a:off x="2671200" y="189000"/>
                <a:ext cx="1584360" cy="685080"/>
              </a:xfrm>
              <a:prstGeom prst="wedgeRoundRectCallout">
                <a:avLst>
                  <a:gd name="adj1" fmla="val -59189"/>
                  <a:gd name="adj2" fmla="val 100000"/>
                  <a:gd name="adj3" fmla="val 16667"/>
                </a:avLst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2914560" y="28692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机械工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1" name=""/>
          <p:cNvGrpSpPr/>
          <p:nvPr/>
        </p:nvGrpSpPr>
        <p:grpSpPr>
          <a:xfrm>
            <a:off x="3348000" y="1413000"/>
            <a:ext cx="1266480" cy="1143000"/>
            <a:chOff x="3348000" y="1413000"/>
            <a:chExt cx="1266480" cy="1143000"/>
          </a:xfrm>
        </p:grpSpPr>
        <p:sp>
          <p:nvSpPr>
            <p:cNvPr id="502" name=""/>
            <p:cNvSpPr/>
            <p:nvPr/>
          </p:nvSpPr>
          <p:spPr>
            <a:xfrm>
              <a:off x="3728880" y="2327400"/>
              <a:ext cx="235080" cy="228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348000" y="1413000"/>
              <a:ext cx="1266480" cy="609840"/>
              <a:chOff x="3348000" y="1413000"/>
              <a:chExt cx="1266480" cy="609840"/>
            </a:xfrm>
          </p:grpSpPr>
          <p:sp>
            <p:nvSpPr>
              <p:cNvPr id="504" name=""/>
              <p:cNvSpPr/>
              <p:nvPr/>
            </p:nvSpPr>
            <p:spPr>
              <a:xfrm flipH="1">
                <a:off x="3348000" y="1413000"/>
                <a:ext cx="1266480" cy="609840"/>
              </a:xfrm>
              <a:prstGeom prst="wedgeRoundRectCallout">
                <a:avLst>
                  <a:gd name="adj1" fmla="val 13967"/>
                  <a:gd name="adj2" fmla="val 106509"/>
                  <a:gd name="adj3" fmla="val 16667"/>
                </a:avLst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596760" y="148932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钢铁工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6" name=""/>
          <p:cNvSpPr/>
          <p:nvPr/>
        </p:nvSpPr>
        <p:spPr>
          <a:xfrm>
            <a:off x="1332000" y="6524640"/>
            <a:ext cx="217440" cy="311040"/>
          </a:xfrm>
          <a:custGeom>
            <a:avLst/>
            <a:gdLst/>
            <a:ahLst/>
            <a:rect l="l" t="t" r="r" b="b"/>
            <a:pathLst>
              <a:path w="480" h="624">
                <a:moveTo>
                  <a:pt x="144" y="0"/>
                </a:moveTo>
                <a:lnTo>
                  <a:pt x="0" y="624"/>
                </a:lnTo>
                <a:lnTo>
                  <a:pt x="480" y="624"/>
                </a:lnTo>
                <a:lnTo>
                  <a:pt x="288" y="0"/>
                </a:lnTo>
                <a:lnTo>
                  <a:pt x="144" y="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87640" y="6524640"/>
            <a:ext cx="228600" cy="235080"/>
          </a:xfrm>
          <a:prstGeom prst="flowChartProcess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-36360" y="6524640"/>
            <a:ext cx="287280" cy="247680"/>
          </a:xfrm>
          <a:prstGeom prst="flowChartExtra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6880" y="6459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56880" y="6453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石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31160" y="65246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煤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条件分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以上分析我们可以看出，辽中南工业区的资源配置相当好，该区有我国最大的铁矿，东北最大的油田、还有大煤矿。此外铁路密集并有沿海港口。因此矿产资源丰富，交通便利是它的优越条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展条件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资源条件、交通条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国北方最大的重工业基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1" action="ppaction://hlinksldjump"/>
          </p:cNvPr>
          <p:cNvSpPr/>
          <p:nvPr/>
        </p:nvSpPr>
        <p:spPr>
          <a:xfrm>
            <a:off x="8604360" y="6597720"/>
            <a:ext cx="287280" cy="260280"/>
          </a:xfrm>
          <a:custGeom>
            <a:avLst/>
            <a:gdLst>
              <a:gd name="textAreaLeft" fmla="*/ 16560 w 287280"/>
              <a:gd name="textAreaRight" fmla="*/ 270720 w 287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838" h="21600">
                <a:moveTo>
                  <a:pt x="0" y="0"/>
                </a:moveTo>
                <a:lnTo>
                  <a:pt x="23838" y="0"/>
                </a:lnTo>
                <a:lnTo>
                  <a:pt x="23838" y="21600"/>
                </a:lnTo>
                <a:lnTo>
                  <a:pt x="0" y="21600"/>
                </a:lnTo>
                <a:close/>
              </a:path>
              <a:path fill="lightenLess" w="23838" h="21600">
                <a:moveTo>
                  <a:pt x="0" y="0"/>
                </a:moveTo>
                <a:lnTo>
                  <a:pt x="23838" y="0"/>
                </a:lnTo>
                <a:lnTo>
                  <a:pt x="22438" y="1400"/>
                </a:lnTo>
                <a:lnTo>
                  <a:pt x="1400" y="1400"/>
                </a:lnTo>
                <a:close/>
              </a:path>
              <a:path fill="darken" w="23838" h="21600">
                <a:moveTo>
                  <a:pt x="23838" y="0"/>
                </a:moveTo>
                <a:lnTo>
                  <a:pt x="23838" y="21600"/>
                </a:lnTo>
                <a:lnTo>
                  <a:pt x="22438" y="20200"/>
                </a:lnTo>
                <a:lnTo>
                  <a:pt x="22438" y="1400"/>
                </a:lnTo>
                <a:close/>
              </a:path>
              <a:path fill="darkenLess" w="23838" h="21600">
                <a:moveTo>
                  <a:pt x="23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8" y="20200"/>
                </a:lnTo>
                <a:close/>
              </a:path>
              <a:path fill="lighten" w="23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38" h="21600">
                <a:moveTo>
                  <a:pt x="4912" y="7493"/>
                </a:moveTo>
                <a:lnTo>
                  <a:pt x="8420" y="7493"/>
                </a:lnTo>
                <a:lnTo>
                  <a:pt x="8420" y="12828"/>
                </a:lnTo>
                <a:cubicBezTo>
                  <a:pt x="8420" y="13751"/>
                  <a:pt x="9221" y="14482"/>
                  <a:pt x="10256" y="14482"/>
                </a:cubicBezTo>
                <a:lnTo>
                  <a:pt x="11919" y="14482"/>
                </a:lnTo>
                <a:cubicBezTo>
                  <a:pt x="12955" y="14482"/>
                  <a:pt x="13755" y="13751"/>
                  <a:pt x="13755" y="12828"/>
                </a:cubicBezTo>
                <a:lnTo>
                  <a:pt x="13755" y="7493"/>
                </a:lnTo>
                <a:lnTo>
                  <a:pt x="11919" y="7493"/>
                </a:lnTo>
                <a:lnTo>
                  <a:pt x="15426" y="3985"/>
                </a:lnTo>
                <a:lnTo>
                  <a:pt x="19099" y="7493"/>
                </a:lnTo>
                <a:lnTo>
                  <a:pt x="17263" y="7493"/>
                </a:lnTo>
                <a:lnTo>
                  <a:pt x="17263" y="12828"/>
                </a:lnTo>
                <a:cubicBezTo>
                  <a:pt x="17263" y="15596"/>
                  <a:pt x="14687" y="18155"/>
                  <a:pt x="11919" y="18155"/>
                </a:cubicBezTo>
                <a:lnTo>
                  <a:pt x="10256" y="18155"/>
                </a:lnTo>
                <a:cubicBezTo>
                  <a:pt x="7489" y="18155"/>
                  <a:pt x="4912" y="15596"/>
                  <a:pt x="4912" y="1282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2" action="ppaction://hlinksldjump"/>
          </p:cNvPr>
          <p:cNvSpPr/>
          <p:nvPr/>
        </p:nvSpPr>
        <p:spPr>
          <a:xfrm>
            <a:off x="111600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35640" cy="5791320"/>
          </a:xfrm>
          <a:prstGeom prst="rect">
            <a:avLst/>
          </a:prstGeom>
          <a:ln w="0">
            <a:noFill/>
          </a:ln>
        </p:spPr>
      </p:pic>
      <p:grpSp>
        <p:nvGrpSpPr>
          <p:cNvPr id="516" name=""/>
          <p:cNvGrpSpPr/>
          <p:nvPr/>
        </p:nvGrpSpPr>
        <p:grpSpPr>
          <a:xfrm>
            <a:off x="457200" y="-152280"/>
            <a:ext cx="4392360" cy="2852280"/>
            <a:chOff x="457200" y="-152280"/>
            <a:chExt cx="4392360" cy="2852280"/>
          </a:xfrm>
        </p:grpSpPr>
        <p:sp>
          <p:nvSpPr>
            <p:cNvPr id="517" name=""/>
            <p:cNvSpPr/>
            <p:nvPr/>
          </p:nvSpPr>
          <p:spPr>
            <a:xfrm>
              <a:off x="457200" y="-152280"/>
              <a:ext cx="4392360" cy="2852280"/>
            </a:xfrm>
            <a:custGeom>
              <a:avLst/>
              <a:gdLst/>
              <a:ahLst/>
              <a:rect l="l" t="t" r="r" b="b"/>
              <a:pathLst>
                <a:path w="3648" h="1792">
                  <a:moveTo>
                    <a:pt x="3648" y="1776"/>
                  </a:moveTo>
                  <a:cubicBezTo>
                    <a:pt x="3416" y="1784"/>
                    <a:pt x="3184" y="1792"/>
                    <a:pt x="2976" y="1728"/>
                  </a:cubicBezTo>
                  <a:cubicBezTo>
                    <a:pt x="2768" y="1664"/>
                    <a:pt x="2576" y="1496"/>
                    <a:pt x="2400" y="1392"/>
                  </a:cubicBezTo>
                  <a:cubicBezTo>
                    <a:pt x="2224" y="1288"/>
                    <a:pt x="2072" y="1216"/>
                    <a:pt x="1920" y="1104"/>
                  </a:cubicBezTo>
                  <a:cubicBezTo>
                    <a:pt x="1768" y="992"/>
                    <a:pt x="1656" y="752"/>
                    <a:pt x="1488" y="720"/>
                  </a:cubicBezTo>
                  <a:cubicBezTo>
                    <a:pt x="1320" y="688"/>
                    <a:pt x="1120" y="968"/>
                    <a:pt x="912" y="912"/>
                  </a:cubicBezTo>
                  <a:cubicBezTo>
                    <a:pt x="704" y="856"/>
                    <a:pt x="392" y="536"/>
                    <a:pt x="240" y="384"/>
                  </a:cubicBezTo>
                  <a:cubicBezTo>
                    <a:pt x="88" y="232"/>
                    <a:pt x="32" y="64"/>
                    <a:pt x="0" y="0"/>
                  </a:cubicBezTo>
                </a:path>
              </a:pathLst>
            </a:custGeom>
            <a:noFill/>
            <a:ln w="475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822680" y="644040"/>
              <a:ext cx="2878200" cy="1947960"/>
              <a:chOff x="1822680" y="644040"/>
              <a:chExt cx="2878200" cy="1947960"/>
            </a:xfrm>
          </p:grpSpPr>
          <p:sp>
            <p:nvSpPr>
              <p:cNvPr id="519" name=""/>
              <p:cNvSpPr/>
              <p:nvPr/>
            </p:nvSpPr>
            <p:spPr>
              <a:xfrm>
                <a:off x="3079800" y="15048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沪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06680" y="20714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22680" y="6440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2" name=""/>
          <p:cNvGrpSpPr/>
          <p:nvPr/>
        </p:nvGrpSpPr>
        <p:grpSpPr>
          <a:xfrm>
            <a:off x="2756520" y="2781360"/>
            <a:ext cx="2102400" cy="1649160"/>
            <a:chOff x="2756520" y="2781360"/>
            <a:chExt cx="2102400" cy="1649160"/>
          </a:xfrm>
        </p:grpSpPr>
        <p:sp>
          <p:nvSpPr>
            <p:cNvPr id="523" name=""/>
            <p:cNvSpPr/>
            <p:nvPr/>
          </p:nvSpPr>
          <p:spPr>
            <a:xfrm>
              <a:off x="2756520" y="2781360"/>
              <a:ext cx="2102400" cy="1637640"/>
            </a:xfrm>
            <a:custGeom>
              <a:avLst/>
              <a:gdLst/>
              <a:ahLst/>
              <a:rect l="l" t="t" r="r" b="b"/>
              <a:pathLst>
                <a:path w="2112" h="2112">
                  <a:moveTo>
                    <a:pt x="2112" y="0"/>
                  </a:moveTo>
                  <a:cubicBezTo>
                    <a:pt x="1892" y="172"/>
                    <a:pt x="1672" y="344"/>
                    <a:pt x="1488" y="480"/>
                  </a:cubicBezTo>
                  <a:cubicBezTo>
                    <a:pt x="1304" y="616"/>
                    <a:pt x="1160" y="680"/>
                    <a:pt x="1008" y="816"/>
                  </a:cubicBezTo>
                  <a:cubicBezTo>
                    <a:pt x="856" y="952"/>
                    <a:pt x="688" y="1168"/>
                    <a:pt x="576" y="1296"/>
                  </a:cubicBezTo>
                  <a:cubicBezTo>
                    <a:pt x="464" y="1424"/>
                    <a:pt x="400" y="1504"/>
                    <a:pt x="336" y="1584"/>
                  </a:cubicBezTo>
                  <a:cubicBezTo>
                    <a:pt x="272" y="1664"/>
                    <a:pt x="248" y="1688"/>
                    <a:pt x="192" y="1776"/>
                  </a:cubicBezTo>
                  <a:cubicBezTo>
                    <a:pt x="136" y="1864"/>
                    <a:pt x="68" y="1988"/>
                    <a:pt x="0" y="2112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72240" y="2985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01920" y="3393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16280" y="3909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6248520" y="0"/>
            <a:ext cx="29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上海有哪些主要工业？与辽中南工业区相比有什么不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172200" y="14479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上海附近有没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发展钢铁工业所必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铁、煤等资源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79600" y="44197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思考上海发展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铁工业的主要条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74040" y="297180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上海运输煤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利用什么运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方式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781680" y="25146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没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867440" y="38098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铁路、水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15160" y="5257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交通、市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10800" y="4149"/>
                </a:moveTo>
                <a:lnTo>
                  <a:pt x="13376" y="6760"/>
                </a:ln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lnTo>
                  <a:pt x="17763" y="11112"/>
                </a:lnTo>
                <a:lnTo>
                  <a:pt x="16109" y="11112"/>
                </a:lnTo>
                <a:lnTo>
                  <a:pt x="16109" y="18301"/>
                </a:lnTo>
                <a:lnTo>
                  <a:pt x="5491" y="18301"/>
                </a:lnTo>
                <a:lnTo>
                  <a:pt x="5491" y="11112"/>
                </a:lnTo>
                <a:lnTo>
                  <a:pt x="3837" y="11112"/>
                </a:lnTo>
                <a:close/>
              </a:path>
              <a:path fill="darkenLess" w="21600" h="22223">
                <a:moveTo>
                  <a:pt x="13376" y="6760"/>
                </a:move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close/>
              </a:path>
              <a:path fill="darkenLess" w="21600" h="22223">
                <a:moveTo>
                  <a:pt x="9877" y="14611"/>
                </a:moveTo>
                <a:lnTo>
                  <a:pt x="11723" y="14611"/>
                </a:lnTo>
                <a:lnTo>
                  <a:pt x="11723" y="18301"/>
                </a:lnTo>
                <a:lnTo>
                  <a:pt x="16109" y="18301"/>
                </a:lnTo>
                <a:lnTo>
                  <a:pt x="16109" y="11112"/>
                </a:lnTo>
                <a:lnTo>
                  <a:pt x="5491" y="11112"/>
                </a:lnTo>
                <a:lnTo>
                  <a:pt x="5491" y="18301"/>
                </a:lnTo>
                <a:lnTo>
                  <a:pt x="9877" y="1830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85800" y="2133720"/>
            <a:ext cx="4457880" cy="4117320"/>
            <a:chOff x="685800" y="2133720"/>
            <a:chExt cx="4457880" cy="4117320"/>
          </a:xfrm>
        </p:grpSpPr>
        <p:sp>
          <p:nvSpPr>
            <p:cNvPr id="536" name=""/>
            <p:cNvSpPr/>
            <p:nvPr/>
          </p:nvSpPr>
          <p:spPr>
            <a:xfrm>
              <a:off x="1235880" y="5791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钢铁工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876920" y="2133720"/>
              <a:ext cx="266760" cy="2379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5800" y="5867280"/>
              <a:ext cx="266760" cy="238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514600" y="2133720"/>
            <a:ext cx="2895480" cy="4117320"/>
            <a:chOff x="2514600" y="2133720"/>
            <a:chExt cx="2895480" cy="4117320"/>
          </a:xfrm>
        </p:grpSpPr>
        <p:sp>
          <p:nvSpPr>
            <p:cNvPr id="540" name=""/>
            <p:cNvSpPr/>
            <p:nvPr/>
          </p:nvSpPr>
          <p:spPr>
            <a:xfrm>
              <a:off x="3058560" y="5791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机械工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43680" y="2133720"/>
              <a:ext cx="266400" cy="237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14600" y="5867280"/>
              <a:ext cx="266760" cy="238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4267080" y="2371680"/>
            <a:ext cx="1386360" cy="3879360"/>
            <a:chOff x="4267080" y="2371680"/>
            <a:chExt cx="1386360" cy="3879360"/>
          </a:xfrm>
        </p:grpSpPr>
        <p:sp>
          <p:nvSpPr>
            <p:cNvPr id="544" name=""/>
            <p:cNvSpPr/>
            <p:nvPr/>
          </p:nvSpPr>
          <p:spPr>
            <a:xfrm>
              <a:off x="4741200" y="5791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化学工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876920" y="2371680"/>
              <a:ext cx="266760" cy="23652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67080" y="5867280"/>
              <a:ext cx="266760" cy="23652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43680" y="2371680"/>
            <a:ext cx="2338560" cy="3879360"/>
            <a:chOff x="5143680" y="2371680"/>
            <a:chExt cx="2338560" cy="3879360"/>
          </a:xfrm>
        </p:grpSpPr>
        <p:sp>
          <p:nvSpPr>
            <p:cNvPr id="548" name=""/>
            <p:cNvSpPr/>
            <p:nvPr/>
          </p:nvSpPr>
          <p:spPr>
            <a:xfrm>
              <a:off x="5143680" y="2371680"/>
              <a:ext cx="266400" cy="236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70000" y="5791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纺织工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19920" y="5867280"/>
              <a:ext cx="266760" cy="236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工业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钢铁、机械、化学、纺织、电子、有色金属等工业——轻重工业都很发达，是全国最大的综合型工业基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件分析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上海附近虽没有煤、铁资源，但它却发挥该地区的交通优势，靠便利的铁路和海上运输从外面引进资源。此外，从市场的角度分析，该区工业城市密集，机械工业发达，对钢铁需求量大，销售市场广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展条件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交通条件、市场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国最大的综合性工业基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1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6616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课外阅读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请同学们回去查阅有关京津唐和珠江三角洲两个工业区的资料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按照我们今天分析的思路和方法了解它们各自发展工业的条件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5616720" y="4049640"/>
            <a:ext cx="3527280" cy="28083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760320" y="380880"/>
            <a:ext cx="6935760" cy="24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航天工业里程碑</a:t>
            </a:r>
            <a:endParaRPr b="1" lang="en-US" sz="40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76320" y="3809880"/>
            <a:ext cx="1958760" cy="289584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4"/>
          <a:stretch/>
        </p:blipFill>
        <p:spPr>
          <a:xfrm>
            <a:off x="2057400" y="2959200"/>
            <a:ext cx="1916280" cy="28321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5"/>
          <a:stretch/>
        </p:blipFill>
        <p:spPr>
          <a:xfrm>
            <a:off x="152388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3500"/>
                            </p:stCondLst>
                            <p:childTnLst>
                              <p:par>
                                <p:cTn id="70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8" dur="1" fill="hold"/>
                                        <p:tgtEl>
                                          <p:spTgt spid="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4" dur="1" fill="hold"/>
                                        <p:tgtEl>
                                          <p:spTgt spid="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3723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0" dur="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600200" y="1905120"/>
            <a:ext cx="6781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1" lang="zh-CN" sz="8800" spc="-1" strike="noStrike">
                <a:solidFill>
                  <a:srgbClr val="ff0000"/>
                </a:solidFill>
                <a:latin typeface="Tahoma"/>
                <a:ea typeface="隶书"/>
              </a:rPr>
              <a:t>再   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13440" y="3837"/>
                </a:moveTo>
                <a:lnTo>
                  <a:pt x="16017" y="6448"/>
                </a:ln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lnTo>
                  <a:pt x="20403" y="10800"/>
                </a:lnTo>
                <a:lnTo>
                  <a:pt x="18750" y="10800"/>
                </a:lnTo>
                <a:lnTo>
                  <a:pt x="18750" y="17989"/>
                </a:lnTo>
                <a:lnTo>
                  <a:pt x="8131" y="17989"/>
                </a:lnTo>
                <a:lnTo>
                  <a:pt x="8131" y="10800"/>
                </a:lnTo>
                <a:lnTo>
                  <a:pt x="6477" y="10800"/>
                </a:lnTo>
                <a:close/>
              </a:path>
              <a:path fill="darkenLess" w="26881" h="21600">
                <a:moveTo>
                  <a:pt x="16017" y="6448"/>
                </a:move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close/>
              </a:path>
              <a:path fill="darkenLess" w="26881" h="21600">
                <a:moveTo>
                  <a:pt x="12518" y="14299"/>
                </a:moveTo>
                <a:lnTo>
                  <a:pt x="14363" y="14299"/>
                </a:lnTo>
                <a:lnTo>
                  <a:pt x="14363" y="17989"/>
                </a:lnTo>
                <a:lnTo>
                  <a:pt x="18750" y="17989"/>
                </a:lnTo>
                <a:lnTo>
                  <a:pt x="18750" y="10800"/>
                </a:lnTo>
                <a:lnTo>
                  <a:pt x="8131" y="10800"/>
                </a:lnTo>
                <a:lnTo>
                  <a:pt x="8131" y="17989"/>
                </a:lnTo>
                <a:lnTo>
                  <a:pt x="12518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9640" y="1413000"/>
            <a:ext cx="85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同学门仔细观察下面工业生产过程。并思考以下几个问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工业生产过程分哪三个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工业生产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工业的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小组讨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9280" y="494172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76720" y="2895480"/>
            <a:ext cx="2743200" cy="2971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209680" y="2895480"/>
            <a:ext cx="914400" cy="83844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172200" y="2971440"/>
            <a:ext cx="685800" cy="106668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350532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开采铁矿，为冶炼钢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提供原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5791320"/>
            <a:ext cx="50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炼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冶炼钢铁，为汽车制造厂提供钢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3276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汽车生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2863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3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971800" cy="41194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289584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276720" y="441972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纺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制衣厂提供棉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62280" y="4343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服装生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4648320"/>
            <a:ext cx="10666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38680" y="4648320"/>
            <a:ext cx="10670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9640" y="1413000"/>
            <a:ext cx="85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同学门仔细观察下面工业生产过程。并思考以下几个问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工业生产过程分哪三个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工业生产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工业的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小组讨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494172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29600" y="6477120"/>
            <a:ext cx="433440" cy="380880"/>
          </a:xfrm>
          <a:custGeom>
            <a:avLst/>
            <a:gdLst>
              <a:gd name="textAreaLeft" fmla="*/ 24480 w 433440"/>
              <a:gd name="textAreaRight" fmla="*/ 408960 w 433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4578" h="21600">
                <a:moveTo>
                  <a:pt x="0" y="0"/>
                </a:moveTo>
                <a:lnTo>
                  <a:pt x="24578" y="0"/>
                </a:lnTo>
                <a:lnTo>
                  <a:pt x="24578" y="21600"/>
                </a:lnTo>
                <a:lnTo>
                  <a:pt x="0" y="21600"/>
                </a:lnTo>
                <a:close/>
              </a:path>
              <a:path fill="lightenLess" w="24578" h="21600">
                <a:moveTo>
                  <a:pt x="0" y="0"/>
                </a:moveTo>
                <a:lnTo>
                  <a:pt x="24578" y="0"/>
                </a:lnTo>
                <a:lnTo>
                  <a:pt x="23178" y="1400"/>
                </a:lnTo>
                <a:lnTo>
                  <a:pt x="1400" y="1400"/>
                </a:lnTo>
                <a:close/>
              </a:path>
              <a:path fill="darken" w="24578" h="21600">
                <a:moveTo>
                  <a:pt x="24578" y="0"/>
                </a:moveTo>
                <a:lnTo>
                  <a:pt x="24578" y="21600"/>
                </a:lnTo>
                <a:lnTo>
                  <a:pt x="23178" y="20200"/>
                </a:lnTo>
                <a:lnTo>
                  <a:pt x="23178" y="1400"/>
                </a:lnTo>
                <a:close/>
              </a:path>
              <a:path fill="darkenLess" w="24578" h="21600">
                <a:moveTo>
                  <a:pt x="24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78" y="20200"/>
                </a:lnTo>
                <a:close/>
              </a:path>
              <a:path fill="lighten" w="24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78" h="21600">
                <a:moveTo>
                  <a:pt x="5282" y="7493"/>
                </a:moveTo>
                <a:lnTo>
                  <a:pt x="8790" y="7493"/>
                </a:lnTo>
                <a:lnTo>
                  <a:pt x="8790" y="12828"/>
                </a:lnTo>
                <a:cubicBezTo>
                  <a:pt x="8790" y="13751"/>
                  <a:pt x="9591" y="14482"/>
                  <a:pt x="10627" y="14482"/>
                </a:cubicBezTo>
                <a:lnTo>
                  <a:pt x="12289" y="14482"/>
                </a:lnTo>
                <a:cubicBezTo>
                  <a:pt x="13325" y="14482"/>
                  <a:pt x="14125" y="13751"/>
                  <a:pt x="14125" y="12828"/>
                </a:cubicBezTo>
                <a:lnTo>
                  <a:pt x="14125" y="7493"/>
                </a:lnTo>
                <a:lnTo>
                  <a:pt x="12289" y="7493"/>
                </a:lnTo>
                <a:lnTo>
                  <a:pt x="15797" y="3985"/>
                </a:lnTo>
                <a:lnTo>
                  <a:pt x="19470" y="7493"/>
                </a:lnTo>
                <a:lnTo>
                  <a:pt x="17633" y="7493"/>
                </a:lnTo>
                <a:lnTo>
                  <a:pt x="17633" y="12828"/>
                </a:lnTo>
                <a:cubicBezTo>
                  <a:pt x="17633" y="15596"/>
                  <a:pt x="15057" y="18155"/>
                  <a:pt x="12289" y="18155"/>
                </a:cubicBezTo>
                <a:lnTo>
                  <a:pt x="10627" y="18155"/>
                </a:lnTo>
                <a:cubicBezTo>
                  <a:pt x="7859" y="18155"/>
                  <a:pt x="5282" y="15596"/>
                  <a:pt x="5282" y="12828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62320" y="1219320"/>
            <a:ext cx="10666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916440"/>
            <a:ext cx="30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09bf"/>
                </a:solidFill>
                <a:latin typeface="Times New Roman"/>
                <a:ea typeface="隶书"/>
              </a:rPr>
              <a:t>工业生产特点</a:t>
            </a:r>
            <a:r>
              <a:rPr b="0" lang="zh-CN" sz="3200" spc="-1" strike="noStrike">
                <a:solidFill>
                  <a:srgbClr val="2709bf"/>
                </a:solidFill>
                <a:latin typeface="Times New Roman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4038480"/>
            <a:ext cx="38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阶段性；联系性；计划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46920" y="533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加 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34240" y="53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再加 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1219320"/>
            <a:ext cx="10670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85160" y="304920"/>
            <a:ext cx="1653120" cy="1678680"/>
            <a:chOff x="785160" y="304920"/>
            <a:chExt cx="1653120" cy="1678680"/>
          </a:xfrm>
        </p:grpSpPr>
        <p:sp>
          <p:nvSpPr>
            <p:cNvPr id="225" name=""/>
            <p:cNvSpPr/>
            <p:nvPr/>
          </p:nvSpPr>
          <p:spPr>
            <a:xfrm>
              <a:off x="855000" y="304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机械采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5160" y="1523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棉花摘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76520" y="304920"/>
              <a:ext cx="761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3300"/>
                  </a:solidFill>
                  <a:latin typeface="Times New Roman"/>
                </a:rPr>
                <a:t>｝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4120" y="380880"/>
            <a:ext cx="2383200" cy="1679040"/>
            <a:chOff x="5334120" y="380880"/>
            <a:chExt cx="2383200" cy="1679040"/>
          </a:xfrm>
        </p:grpSpPr>
        <p:sp>
          <p:nvSpPr>
            <p:cNvPr id="229" name=""/>
            <p:cNvSpPr/>
            <p:nvPr/>
          </p:nvSpPr>
          <p:spPr>
            <a:xfrm>
              <a:off x="6728760" y="380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汽车生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05080" y="160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服装生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34120" y="38088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3300"/>
                  </a:solidFill>
                  <a:latin typeface="Times New Roman"/>
                </a:rPr>
                <a:t>｛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064680" y="304920"/>
            <a:ext cx="1995840" cy="1678680"/>
            <a:chOff x="3064680" y="304920"/>
            <a:chExt cx="1995840" cy="1678680"/>
          </a:xfrm>
        </p:grpSpPr>
        <p:sp>
          <p:nvSpPr>
            <p:cNvPr id="233" name=""/>
            <p:cNvSpPr/>
            <p:nvPr/>
          </p:nvSpPr>
          <p:spPr>
            <a:xfrm>
              <a:off x="4267080" y="304920"/>
              <a:ext cx="793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3300"/>
                  </a:solidFill>
                  <a:latin typeface="Times New Roman"/>
                </a:rPr>
                <a:t>｝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36240" y="3808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炼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36240" y="15238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纺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64680" y="30492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3300"/>
                  </a:solidFill>
                  <a:latin typeface="Times New Roman"/>
                </a:rPr>
                <a:t>｛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0880" y="53341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09bf"/>
                </a:solidFill>
                <a:latin typeface="Times New Roman"/>
                <a:ea typeface="隶书"/>
              </a:rPr>
              <a:t>工业的类型</a:t>
            </a:r>
            <a:r>
              <a:rPr b="0" lang="zh-CN" sz="2400" spc="-1" strike="noStrike">
                <a:solidFill>
                  <a:srgbClr val="2709b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37040" y="4724280"/>
            <a:ext cx="54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重工业：以生产生产资料为主的工业部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如钢铁、煤炭、机械工业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轻工业：以生产生活资料为主的工业部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如纺织、食品、服装工业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1981080"/>
            <a:ext cx="0" cy="990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89548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自然界取得物质资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1905120"/>
            <a:ext cx="0" cy="10666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97680" y="30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原材料进行加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62920" y="1981080"/>
            <a:ext cx="0" cy="9144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95080" y="2895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再加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7493"/>
                </a:moveTo>
                <a:lnTo>
                  <a:pt x="18076" y="7493"/>
                </a:lnTo>
                <a:lnTo>
                  <a:pt x="18076" y="12828"/>
                </a:lnTo>
                <a:cubicBezTo>
                  <a:pt x="18076" y="13751"/>
                  <a:pt x="18876" y="14482"/>
                  <a:pt x="19912" y="14482"/>
                </a:cubicBezTo>
                <a:lnTo>
                  <a:pt x="21575" y="14482"/>
                </a:lnTo>
                <a:cubicBezTo>
                  <a:pt x="22610" y="14482"/>
                  <a:pt x="23411" y="13751"/>
                  <a:pt x="23411" y="12828"/>
                </a:cubicBezTo>
                <a:lnTo>
                  <a:pt x="23411" y="7493"/>
                </a:lnTo>
                <a:lnTo>
                  <a:pt x="21575" y="7493"/>
                </a:lnTo>
                <a:lnTo>
                  <a:pt x="25082" y="3985"/>
                </a:lnTo>
                <a:lnTo>
                  <a:pt x="28755" y="7493"/>
                </a:lnTo>
                <a:lnTo>
                  <a:pt x="26919" y="7493"/>
                </a:lnTo>
                <a:lnTo>
                  <a:pt x="26919" y="12828"/>
                </a:lnTo>
                <a:cubicBezTo>
                  <a:pt x="26919" y="15596"/>
                  <a:pt x="24342" y="18155"/>
                  <a:pt x="21575" y="18155"/>
                </a:cubicBezTo>
                <a:lnTo>
                  <a:pt x="19912" y="18155"/>
                </a:lnTo>
                <a:cubicBezTo>
                  <a:pt x="17144" y="18155"/>
                  <a:pt x="14568" y="15596"/>
                  <a:pt x="14568" y="1282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43200" y="495288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45964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走进各行各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别采访农民、建筑工程师、科学家和军人，深入了解工业在各个领域所起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 flipH="1">
            <a:off x="6676560" y="3809880"/>
            <a:ext cx="2467080" cy="304812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468360" y="2733840"/>
            <a:ext cx="4266720" cy="4124160"/>
            <a:chOff x="468360" y="2733840"/>
            <a:chExt cx="4266720" cy="4124160"/>
          </a:xfrm>
        </p:grpSpPr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546120" y="4867560"/>
              <a:ext cx="1588320" cy="18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3"/>
            <a:stretch/>
          </p:blipFill>
          <p:spPr>
            <a:xfrm>
              <a:off x="2922120" y="4943520"/>
              <a:ext cx="181296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468360" y="2784600"/>
              <a:ext cx="1873080" cy="17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2990880" y="2733840"/>
              <a:ext cx="1371600" cy="182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/>
          <p:nvPr/>
        </p:nvSpPr>
        <p:spPr>
          <a:xfrm flipH="1">
            <a:off x="4643280" y="5229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0364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采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3809880"/>
            <a:ext cx="2158920" cy="2592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3429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477120" y="3429000"/>
            <a:ext cx="2666880" cy="3427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133720" y="4495680"/>
            <a:ext cx="2286000" cy="23608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4343400" y="4495680"/>
            <a:ext cx="2133720" cy="23608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62120" y="380880"/>
            <a:ext cx="5181480" cy="2819520"/>
          </a:xfrm>
          <a:prstGeom prst="wedgeRoundRectCallout">
            <a:avLst>
              <a:gd name="adj1" fmla="val -43046"/>
              <a:gd name="adj2" fmla="val 69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现代化的农业真是离不开工业的支持。化肥、农药、电力设备，还有各种各样的播种机、插秧机、收割机、运输工具，大大提高了农业生产水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0-15T16:29:31Z</dcterms:modified>
  <cp:revision>81</cp:revision>
  <dc:subject/>
  <dc:title/>
</cp:coreProperties>
</file>